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.pct" ContentType="image/x-pict"/>
  <Override PartName="/ppt/media/image11.png" ContentType="image/png"/>
  <Override PartName="/ppt/media/image22.jpeg" ContentType="image/jpeg"/>
  <Override PartName="/ppt/media/image6.pct" ContentType="image/x-pict"/>
  <Override PartName="/ppt/media/image9.png" ContentType="image/png"/>
  <Override PartName="/ppt/media/image7.png" ContentType="image/png"/>
  <Override PartName="/ppt/media/image4.pct" ContentType="image/x-pict"/>
  <Override PartName="/ppt/media/image12.png" ContentType="image/png"/>
  <Override PartName="/ppt/media/image23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.pct" ContentType="image/x-pict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5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9A9-FFF5-4215-A205-28C1C086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AF4-2365-4EA8-81B9-3FCC523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F88-5C6D-48DE-9FEE-F125AB0D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DBD-CE14-4F67-A085-E87ABF63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73F-159C-4EB5-8F63-9BA5F70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5AE-4392-4465-998C-6013C33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6A1-70D2-4C33-9DC3-85E8D57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50E-F27C-4F82-8D31-45EC81F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8A4-AAC4-4C3A-9195-901785F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270-3231-4F91-BC85-B3A7806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4F6-C423-4291-8FD9-B6E9EF7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5CE-FDF8-4995-BA62-0FE2AB3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EA4B6F49-151E-4DF8-A487-DE62B2BE1E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14.png"/><Relationship Id="rId14" Type="http://schemas.openxmlformats.org/officeDocument/2006/relationships/image" Target="../media/image5.pct"/><Relationship Id="rId15" Type="http://schemas.openxmlformats.org/officeDocument/2006/relationships/image" Target="../media/image6.pct"/><Relationship Id="rId16" Type="http://schemas.openxmlformats.org/officeDocument/2006/relationships/image" Target="../media/image5.pct"/><Relationship Id="rId17" Type="http://schemas.openxmlformats.org/officeDocument/2006/relationships/image" Target="../media/image6.pct"/><Relationship Id="rId18" Type="http://schemas.openxmlformats.org/officeDocument/2006/relationships/image" Target="../media/image5.pct"/><Relationship Id="rId19" Type="http://schemas.openxmlformats.org/officeDocument/2006/relationships/image" Target="../media/image6.pct"/><Relationship Id="rId20" Type="http://schemas.openxmlformats.org/officeDocument/2006/relationships/image" Target="../media/image15.gif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2.pct"/><Relationship Id="rId2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4.pct"/><Relationship Id="rId10" Type="http://schemas.openxmlformats.org/officeDocument/2006/relationships/image" Target="../media/image4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5.pct"/><Relationship Id="rId14" Type="http://schemas.openxmlformats.org/officeDocument/2006/relationships/image" Target="../media/image6.pct"/><Relationship Id="rId15" Type="http://schemas.openxmlformats.org/officeDocument/2006/relationships/image" Target="../media/image5.pct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Capitolo 5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Livello di collegamento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 reti loc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200" y="2593800"/>
            <a:ext cx="50720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a per l’utilizz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bbiamo preparato queste slide con l’intenzione di renderle disponibili a tutti (professori, studenti, lettori). Sono in formato PowerPoint  in modo che voi possiate aggiungere e cancellare slide (compresa questa) o modificarne il contenuto in base alle vostre esigen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e potete facilmente immaginare, da parte nostra abbiamo fat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sac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i lavoro. In cambio, vi chiediamo solo di rispettare le seguenti condi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utilizzate queste slide (ad esempio, in aula) in una forma sostanzialmente inalterata, fate riferimento alla fonte (dopo tutto, ci piacerebbe che la gente usasse il nostro libro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rendete disponibili queste slide in una forma sostanzialmente inalterata su un sito web, indicate che si tratta di un adattamento (o che sono identiche) delle nostre slide, e inserite la nota relativa al copyr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hanks and enjoy!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JFK/K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 material copyright 199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1280" y="4262400"/>
            <a:ext cx="26748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cc"/>
                </a:solidFill>
                <a:latin typeface="Comic Sans MS"/>
              </a:rPr>
              <a:t>Reti di calcolatori e Internet: Un approccio top-down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GB" sz="1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edizione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Jim Kurose, Keith Ross</a:t>
            </a:r>
            <a:br>
              <a:rPr sz="1400"/>
            </a:br>
            <a:br>
              <a:rPr sz="14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Pearson Paravia Bruno Mondadori Spa</a:t>
            </a:r>
            <a:br>
              <a:rPr sz="11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 ©2008</a:t>
            </a:r>
            <a:r>
              <a:rPr b="0" lang="en-GB" sz="11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24760" y="361800"/>
            <a:ext cx="2490480" cy="35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96E-EAE2-4224-A4C7-B5808C2687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7000"/>
            <a:ext cx="841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2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625-002B-4F65-BE8C-8847396800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MPLS: 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a commutazione di etichet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3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ti anche “label-switched rout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iano i pacchetti MPLS analizzando l’etichetta MPLS nella tabella d’instradamento, passando immediatamente il datagramma all’appropriata interfac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abelle d’instradamento MPLS ≠ Tabelle d’instradament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cessità di un protocollo utilizzato per distribuire etichette tra i router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SVP-TE, un’estensione del protocollo RSV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l’invio di pacchetti lungo rotte che non potrebbero essere utilizzate con i protocolli d’instradamento IP standard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tilizza MPLS per il “traffic engineering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vono coesistere con i router “solo-I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339-EB4E-49A0-AF6D-1056A1A7680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abelle d’instradament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1754280" y="5278320"/>
            <a:ext cx="2462040" cy="419040"/>
          </a:xfrm>
          <a:custGeom>
            <a:avLst/>
            <a:gdLst/>
            <a:ahLst/>
            <a:rect l="l" t="t" r="r" b="b"/>
            <a:pathLst>
              <a:path w="1551" h="264">
                <a:moveTo>
                  <a:pt x="1263" y="8"/>
                </a:moveTo>
                <a:lnTo>
                  <a:pt x="0" y="264"/>
                </a:lnTo>
                <a:lnTo>
                  <a:pt x="1536" y="264"/>
                </a:lnTo>
                <a:lnTo>
                  <a:pt x="1551" y="0"/>
                </a:lnTo>
                <a:lnTo>
                  <a:pt x="1263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492800" y="5326200"/>
            <a:ext cx="2447640" cy="577800"/>
          </a:xfrm>
          <a:custGeom>
            <a:avLst/>
            <a:gdLst/>
            <a:ahLst/>
            <a:rect l="l" t="t" r="r" b="b"/>
            <a:pathLst>
              <a:path w="1542" h="364">
                <a:moveTo>
                  <a:pt x="839" y="8"/>
                </a:moveTo>
                <a:lnTo>
                  <a:pt x="0" y="364"/>
                </a:lnTo>
                <a:lnTo>
                  <a:pt x="1542" y="364"/>
                </a:lnTo>
                <a:lnTo>
                  <a:pt x="1127" y="0"/>
                </a:lnTo>
                <a:lnTo>
                  <a:pt x="839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884240" y="3106800"/>
            <a:ext cx="2433600" cy="798480"/>
          </a:xfrm>
          <a:custGeom>
            <a:avLst/>
            <a:gdLst/>
            <a:ahLst/>
            <a:rect l="l" t="t" r="r" b="b"/>
            <a:pathLst>
              <a:path w="1533" h="503">
                <a:moveTo>
                  <a:pt x="808" y="503"/>
                </a:moveTo>
                <a:lnTo>
                  <a:pt x="1533" y="0"/>
                </a:lnTo>
                <a:lnTo>
                  <a:pt x="0" y="0"/>
                </a:lnTo>
                <a:lnTo>
                  <a:pt x="685" y="481"/>
                </a:lnTo>
                <a:lnTo>
                  <a:pt x="808" y="5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552920" y="3416400"/>
            <a:ext cx="2589120" cy="511200"/>
          </a:xfrm>
          <a:custGeom>
            <a:avLst/>
            <a:gdLst/>
            <a:ahLst/>
            <a:rect l="l" t="t" r="r" b="b"/>
            <a:pathLst>
              <a:path w="1631" h="322">
                <a:moveTo>
                  <a:pt x="123" y="322"/>
                </a:moveTo>
                <a:lnTo>
                  <a:pt x="1631" y="0"/>
                </a:lnTo>
                <a:lnTo>
                  <a:pt x="89" y="0"/>
                </a:lnTo>
                <a:lnTo>
                  <a:pt x="0" y="300"/>
                </a:lnTo>
                <a:lnTo>
                  <a:pt x="123" y="32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5583240" y="4924440"/>
            <a:ext cx="766440" cy="432720"/>
            <a:chOff x="5583240" y="4924440"/>
            <a:chExt cx="766440" cy="432720"/>
          </a:xfrm>
        </p:grpSpPr>
        <p:sp>
          <p:nvSpPr>
            <p:cNvPr id="2124" name=""/>
            <p:cNvSpPr/>
            <p:nvPr/>
          </p:nvSpPr>
          <p:spPr>
            <a:xfrm>
              <a:off x="5589360" y="51174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8936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4968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589360" y="50972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83240" y="49244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5766120" y="4985640"/>
              <a:ext cx="376200" cy="163440"/>
              <a:chOff x="5766120" y="4985640"/>
              <a:chExt cx="376200" cy="163440"/>
            </a:xfrm>
          </p:grpSpPr>
          <p:sp>
            <p:nvSpPr>
              <p:cNvPr id="2130" name=""/>
              <p:cNvSpPr/>
              <p:nvPr/>
            </p:nvSpPr>
            <p:spPr>
              <a:xfrm flipV="1">
                <a:off x="5766120" y="49856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24240" y="51490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889960" y="4989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5766120" y="4984200"/>
              <a:ext cx="376200" cy="163440"/>
              <a:chOff x="5766120" y="4984200"/>
              <a:chExt cx="376200" cy="163440"/>
            </a:xfrm>
          </p:grpSpPr>
          <p:sp>
            <p:nvSpPr>
              <p:cNvPr id="2134" name=""/>
              <p:cNvSpPr/>
              <p:nvPr/>
            </p:nvSpPr>
            <p:spPr>
              <a:xfrm>
                <a:off x="5766120" y="51444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24240" y="49842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5889960" y="49842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7" name=""/>
          <p:cNvGrpSpPr/>
          <p:nvPr/>
        </p:nvGrpSpPr>
        <p:grpSpPr>
          <a:xfrm>
            <a:off x="3757680" y="4919760"/>
            <a:ext cx="766440" cy="432720"/>
            <a:chOff x="3757680" y="4919760"/>
            <a:chExt cx="766440" cy="432720"/>
          </a:xfrm>
        </p:grpSpPr>
        <p:sp>
          <p:nvSpPr>
            <p:cNvPr id="2138" name=""/>
            <p:cNvSpPr/>
            <p:nvPr/>
          </p:nvSpPr>
          <p:spPr>
            <a:xfrm>
              <a:off x="3763800" y="51127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6380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2412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63800" y="50925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57680" y="49197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3" name=""/>
            <p:cNvGrpSpPr/>
            <p:nvPr/>
          </p:nvGrpSpPr>
          <p:grpSpPr>
            <a:xfrm>
              <a:off x="3940560" y="4980960"/>
              <a:ext cx="376200" cy="163440"/>
              <a:chOff x="3940560" y="4980960"/>
              <a:chExt cx="376200" cy="163440"/>
            </a:xfrm>
          </p:grpSpPr>
          <p:sp>
            <p:nvSpPr>
              <p:cNvPr id="2144" name=""/>
              <p:cNvSpPr/>
              <p:nvPr/>
            </p:nvSpPr>
            <p:spPr>
              <a:xfrm flipV="1">
                <a:off x="3940560" y="49809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198680" y="51444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064400" y="49845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3940560" y="4979520"/>
              <a:ext cx="376200" cy="163440"/>
              <a:chOff x="3940560" y="4979520"/>
              <a:chExt cx="376200" cy="163440"/>
            </a:xfrm>
          </p:grpSpPr>
          <p:sp>
            <p:nvSpPr>
              <p:cNvPr id="2148" name=""/>
              <p:cNvSpPr/>
              <p:nvPr/>
            </p:nvSpPr>
            <p:spPr>
              <a:xfrm>
                <a:off x="3940560" y="51397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198680" y="49795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4064400" y="49795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1" name=""/>
          <p:cNvGrpSpPr/>
          <p:nvPr/>
        </p:nvGrpSpPr>
        <p:grpSpPr>
          <a:xfrm>
            <a:off x="4111560" y="3902040"/>
            <a:ext cx="766440" cy="432720"/>
            <a:chOff x="4111560" y="3902040"/>
            <a:chExt cx="766440" cy="432720"/>
          </a:xfrm>
        </p:grpSpPr>
        <p:sp>
          <p:nvSpPr>
            <p:cNvPr id="2152" name=""/>
            <p:cNvSpPr/>
            <p:nvPr/>
          </p:nvSpPr>
          <p:spPr>
            <a:xfrm>
              <a:off x="4117680" y="40950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11768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87800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117680" y="40748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111560" y="39020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294440" y="3963240"/>
              <a:ext cx="376200" cy="163440"/>
              <a:chOff x="4294440" y="3963240"/>
              <a:chExt cx="376200" cy="163440"/>
            </a:xfrm>
          </p:grpSpPr>
          <p:sp>
            <p:nvSpPr>
              <p:cNvPr id="2158" name=""/>
              <p:cNvSpPr/>
              <p:nvPr/>
            </p:nvSpPr>
            <p:spPr>
              <a:xfrm flipV="1">
                <a:off x="4294440" y="39632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552560" y="41266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418280" y="39668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1" name=""/>
            <p:cNvGrpSpPr/>
            <p:nvPr/>
          </p:nvGrpSpPr>
          <p:grpSpPr>
            <a:xfrm>
              <a:off x="4294440" y="3961800"/>
              <a:ext cx="376200" cy="163440"/>
              <a:chOff x="4294440" y="3961800"/>
              <a:chExt cx="376200" cy="163440"/>
            </a:xfrm>
          </p:grpSpPr>
          <p:sp>
            <p:nvSpPr>
              <p:cNvPr id="2162" name=""/>
              <p:cNvSpPr/>
              <p:nvPr/>
            </p:nvSpPr>
            <p:spPr>
              <a:xfrm>
                <a:off x="4294440" y="41220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52560" y="39618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4418280" y="39618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5" name=""/>
          <p:cNvGrpSpPr/>
          <p:nvPr/>
        </p:nvGrpSpPr>
        <p:grpSpPr>
          <a:xfrm>
            <a:off x="2684520" y="3897360"/>
            <a:ext cx="766440" cy="432720"/>
            <a:chOff x="2684520" y="3897360"/>
            <a:chExt cx="766440" cy="432720"/>
          </a:xfrm>
        </p:grpSpPr>
        <p:sp>
          <p:nvSpPr>
            <p:cNvPr id="2166" name=""/>
            <p:cNvSpPr/>
            <p:nvPr/>
          </p:nvSpPr>
          <p:spPr>
            <a:xfrm>
              <a:off x="2690640" y="40903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9064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5096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90640" y="40701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84520" y="38973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867400" y="3958560"/>
              <a:ext cx="376200" cy="163440"/>
              <a:chOff x="2867400" y="3958560"/>
              <a:chExt cx="376200" cy="163440"/>
            </a:xfrm>
          </p:grpSpPr>
          <p:sp>
            <p:nvSpPr>
              <p:cNvPr id="2172" name=""/>
              <p:cNvSpPr/>
              <p:nvPr/>
            </p:nvSpPr>
            <p:spPr>
              <a:xfrm flipV="1">
                <a:off x="2867400" y="39585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125520" y="41220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91240" y="39621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2867400" y="3957120"/>
              <a:ext cx="376200" cy="163440"/>
              <a:chOff x="2867400" y="3957120"/>
              <a:chExt cx="376200" cy="163440"/>
            </a:xfrm>
          </p:grpSpPr>
          <p:sp>
            <p:nvSpPr>
              <p:cNvPr id="2176" name=""/>
              <p:cNvSpPr/>
              <p:nvPr/>
            </p:nvSpPr>
            <p:spPr>
              <a:xfrm>
                <a:off x="2867400" y="41173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125520" y="3957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2991240" y="39571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9" name=""/>
          <p:cNvGrpSpPr/>
          <p:nvPr/>
        </p:nvGrpSpPr>
        <p:grpSpPr>
          <a:xfrm>
            <a:off x="1165320" y="3191040"/>
            <a:ext cx="766800" cy="432720"/>
            <a:chOff x="1165320" y="3191040"/>
            <a:chExt cx="766800" cy="432720"/>
          </a:xfrm>
        </p:grpSpPr>
        <p:sp>
          <p:nvSpPr>
            <p:cNvPr id="2180" name=""/>
            <p:cNvSpPr/>
            <p:nvPr/>
          </p:nvSpPr>
          <p:spPr>
            <a:xfrm>
              <a:off x="1171800" y="3384360"/>
              <a:ext cx="760320" cy="23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68560" y="3341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926000" y="3328920"/>
              <a:ext cx="612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178280" y="3363840"/>
              <a:ext cx="747720" cy="14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165320" y="3191040"/>
              <a:ext cx="760680" cy="27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1347840" y="3252240"/>
              <a:ext cx="377280" cy="163080"/>
              <a:chOff x="1347840" y="3252240"/>
              <a:chExt cx="377280" cy="163080"/>
            </a:xfrm>
          </p:grpSpPr>
          <p:sp>
            <p:nvSpPr>
              <p:cNvPr id="2186" name=""/>
              <p:cNvSpPr/>
              <p:nvPr/>
            </p:nvSpPr>
            <p:spPr>
              <a:xfrm flipV="1">
                <a:off x="1347840" y="325224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06680" y="34153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472040" y="325584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1347840" y="3249360"/>
              <a:ext cx="377280" cy="163080"/>
              <a:chOff x="1347840" y="3249360"/>
              <a:chExt cx="377280" cy="163080"/>
            </a:xfrm>
          </p:grpSpPr>
          <p:sp>
            <p:nvSpPr>
              <p:cNvPr id="2190" name=""/>
              <p:cNvSpPr/>
              <p:nvPr/>
            </p:nvSpPr>
            <p:spPr>
              <a:xfrm>
                <a:off x="1347840" y="340920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06680" y="32493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1472040" y="324936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3" name=""/>
          <p:cNvSpPr/>
          <p:nvPr/>
        </p:nvSpPr>
        <p:spPr>
          <a:xfrm>
            <a:off x="1935000" y="3433680"/>
            <a:ext cx="76212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982880" y="4138200"/>
            <a:ext cx="733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449520" y="41385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97240" y="4300560"/>
            <a:ext cx="56196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554360" y="517680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840200" y="4253040"/>
            <a:ext cx="838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354720" y="51577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806080" y="5357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942360" y="533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864400" y="3956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327920" y="43340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853360" y="4351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1211400" y="4137120"/>
            <a:ext cx="766800" cy="433440"/>
            <a:chOff x="1211400" y="4137120"/>
            <a:chExt cx="766800" cy="433440"/>
          </a:xfrm>
        </p:grpSpPr>
        <p:sp>
          <p:nvSpPr>
            <p:cNvPr id="2206" name=""/>
            <p:cNvSpPr/>
            <p:nvPr/>
          </p:nvSpPr>
          <p:spPr>
            <a:xfrm>
              <a:off x="1217880" y="4330800"/>
              <a:ext cx="760320" cy="23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14640" y="4287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972080" y="4275360"/>
              <a:ext cx="61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24360" y="4310280"/>
              <a:ext cx="74772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11400" y="4137120"/>
              <a:ext cx="76068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1393920" y="4198680"/>
              <a:ext cx="377280" cy="163440"/>
              <a:chOff x="1393920" y="4198680"/>
              <a:chExt cx="377280" cy="163440"/>
            </a:xfrm>
          </p:grpSpPr>
          <p:sp>
            <p:nvSpPr>
              <p:cNvPr id="2212" name=""/>
              <p:cNvSpPr/>
              <p:nvPr/>
            </p:nvSpPr>
            <p:spPr>
              <a:xfrm flipV="1">
                <a:off x="1393920" y="419868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652760" y="43621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518120" y="420228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1393920" y="4196160"/>
              <a:ext cx="377280" cy="163440"/>
              <a:chOff x="1393920" y="4196160"/>
              <a:chExt cx="377280" cy="163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1393920" y="435636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52760" y="41961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1518120" y="419616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9" name=""/>
          <p:cNvSpPr/>
          <p:nvPr/>
        </p:nvSpPr>
        <p:spPr>
          <a:xfrm>
            <a:off x="1405440" y="4570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84880" y="4897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925880" y="416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851360" y="388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883040" y="412920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412800" y="3876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18560" y="49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369080" y="3621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4896000" y="5343480"/>
            <a:ext cx="2546280" cy="922320"/>
            <a:chOff x="4896000" y="5343480"/>
            <a:chExt cx="2546280" cy="922320"/>
          </a:xfrm>
        </p:grpSpPr>
        <p:sp>
          <p:nvSpPr>
            <p:cNvPr id="2228" name=""/>
            <p:cNvSpPr/>
            <p:nvPr/>
          </p:nvSpPr>
          <p:spPr>
            <a:xfrm>
              <a:off x="4945320" y="538452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896000" y="534348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959720" y="58417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977000" y="58482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     -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472360" y="539568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081840" y="540072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596280" y="54054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5" name=""/>
          <p:cNvGrpSpPr/>
          <p:nvPr/>
        </p:nvGrpSpPr>
        <p:grpSpPr>
          <a:xfrm>
            <a:off x="4629240" y="2212920"/>
            <a:ext cx="2546280" cy="1239840"/>
            <a:chOff x="4629240" y="2212920"/>
            <a:chExt cx="2546280" cy="1239840"/>
          </a:xfrm>
        </p:grpSpPr>
        <p:sp>
          <p:nvSpPr>
            <p:cNvPr id="2236" name=""/>
            <p:cNvSpPr/>
            <p:nvPr/>
          </p:nvSpPr>
          <p:spPr>
            <a:xfrm>
              <a:off x="4678200" y="2254320"/>
              <a:ext cx="2433600" cy="11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29240" y="221292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92600" y="27115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09880" y="27180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   6      A    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05240" y="2265480"/>
              <a:ext cx="180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701960" y="306864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     9      D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73680" y="228276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42120" y="227340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4" name=""/>
          <p:cNvSpPr/>
          <p:nvPr/>
        </p:nvSpPr>
        <p:spPr>
          <a:xfrm>
            <a:off x="1843200" y="1650960"/>
            <a:ext cx="243360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793880" y="1609560"/>
            <a:ext cx="254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        out                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    label   dest   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857240" y="2108160"/>
            <a:ext cx="23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874880" y="211464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A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370240" y="1662120"/>
            <a:ext cx="144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865160" y="24559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D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938320" y="1658880"/>
            <a:ext cx="180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506760" y="1670040"/>
            <a:ext cx="144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36840" y="419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716120" y="5661000"/>
            <a:ext cx="2546280" cy="922320"/>
            <a:chOff x="1716120" y="5661000"/>
            <a:chExt cx="2546280" cy="922320"/>
          </a:xfrm>
        </p:grpSpPr>
        <p:sp>
          <p:nvSpPr>
            <p:cNvPr id="2254" name=""/>
            <p:cNvSpPr/>
            <p:nvPr/>
          </p:nvSpPr>
          <p:spPr>
            <a:xfrm>
              <a:off x="1765440" y="570204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716120" y="566100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779840" y="615924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797120" y="616572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     6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292480" y="57132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01960" y="571824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16400" y="572292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4489200" y="4915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847880" y="27576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A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D25-186C-4496-86C2-4D0C091F6C1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riass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mplementazione di varie tecnologie al livello di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N commu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ti virtuali: ATM,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3AE-6668-4429-A4FE-CC2B88D9CAC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facciamo il p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4928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mpletato il nostro viagg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ttraverso la pila dei protocolli (ad eccezione del livello fis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lida conoscenza dei principi del network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e anche degli aspeti prat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tremmo fermarci qui… ma ci sono ancor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un sacco di argomenti interessant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curezza di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stione della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87E-E07B-4316-A1B5-E5C8BD1CCCE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056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Tecniche di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gli errori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535040" y="3639960"/>
            <a:ext cx="5329440" cy="2922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46120" y="1312920"/>
            <a:ext cx="833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C=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Error Detection and Correct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    = Dati che devono essere protetti da errori e ai quali vengono aggiunti dei bit E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rilevazione degli errori non è attendibile al 100%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che ci siano errori non rilev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ridurre la probabilità di questo evento, le tecniche più sofisticate prevedono un’elevata ridond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2FA-6954-4ED0-AA7B-942B97D50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2760" y="3636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ontrollo di parità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2386080"/>
            <a:ext cx="2609640" cy="907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61800" y="1460520"/>
            <a:ext cx="296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Unico bit di par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i è verificato almeno un errore in un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030560" y="2220840"/>
            <a:ext cx="3751200" cy="4114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664800" y="1407960"/>
            <a:ext cx="3608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tà bidimensionale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ndividua e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rregg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il bit alt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4560" y="522288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512928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4880" y="521820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0360" y="51246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6DC-3BD8-4390-AEE4-A104332F11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di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Mit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dati sono trattati come interi da 16 bit e sommat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cksum: è il complemento a 1 di questa som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ittente inserisce il valore della checksum nell’intestazione dei segmen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8320" y="2526840"/>
            <a:ext cx="423216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a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ricevente controlla la checksu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alcola il complemento a 1 della somma dei dati ricevuti e verifica che i bit del risultato siano 1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on lo sono: segnala un err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SÌ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o sono: non sono stati rilevati errori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nonostante, ci potrebbero essere altri errori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scopriremo in seguito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ileva gli errori ma viene usat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livello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73E-FA0F-4FC4-85FB-5B61B0B182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lo a ridondanza ci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326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i dat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come numeri bina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rigine e destinazione si sono accordati su una stringa di r+1 bit, conosciuta come generatore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i: scegliere r bit addizional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in mod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D,R&gt; siano esattamente divisibili per G (modulo 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destinatario conosce G, e divide &lt;D,R&gt; per G.  Se il resto è diverso da 0 si è verificato un error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C può rilevare errori a raffica inferiori a r+1 b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pratica è molto usato (ATM, HDCL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04800" y="5035680"/>
            <a:ext cx="5739120" cy="15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ECF-C948-49D7-AEE4-CDDB2F9E3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sempio di CRC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2120" y="1280880"/>
            <a:ext cx="347832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Voglia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Quind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diamo 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G, otteniamo il valor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resto di   [       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506556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4004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DBA-5DFD-44E6-A0D1-E7FDFBE9D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3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C8B-B639-43F9-8771-8CDDF4257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054080"/>
            <a:ext cx="80532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due tipi di collegamenti di re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punto-punto (PP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iegato per connessioni telefonich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legamenti punto-punto tra Ethernet e h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broadc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cavo o canale condivis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thernet tradiziona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F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n upstre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ireless LA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57320" y="588312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nale cab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div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589752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es. 802.11 WiF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72320" y="5958000"/>
            <a:ext cx="121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satelli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95120" y="5667480"/>
            <a:ext cx="21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sone a 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cktail par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rumore, aria condivi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422" name="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425" name="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432" name="" descr="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/>
              <a:ahLst/>
              <a:rect l="l" t="t" r="r" b="b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/>
              <a:ahLst/>
              <a:rect l="l" t="t" r="r" b="b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/>
              <a:ahLst/>
              <a:rect l="l" t="t" r="r" b="b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/>
              <a:ahLst/>
              <a:rect l="l" t="t" r="r" b="b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/>
              <a:ahLst/>
              <a:rect l="l" t="t" r="r" b="b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/>
              <a:ahLst/>
              <a:rect l="l" t="t" r="r" b="b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/>
              <a:ahLst/>
              <a:rect l="l" t="t" r="r" b="b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/>
              <a:ahLst/>
              <a:rect l="l" t="t" r="r" b="b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/>
              <a:ahLst/>
              <a:rect l="l" t="t" r="r" b="b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450" name="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456" name="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459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474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489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423-A2B0-4848-8CFF-1C023E4BD9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9680" y="1395360"/>
            <a:ext cx="8396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nessione a un canale broadcast condivis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entinaia o anche migliaia di nodi possono comunicare direttamente su un canal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genera una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collision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i nodi ricevono due o più frame contemporaneament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li di accesso mu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che fissano le modalità con cui i nodi regolano le loro trasmissioni sul canale condivi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municazione relativa al canale condiviso deve utilizzare lo stesso canale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un canale “out-of-band” per la coordin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EB9-F559-4832-A523-443A6C2E4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e broadcast con velocità di </a:t>
            </a: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 bit al sec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Quando un nodo deve inviare dati, questo dispone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Quando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di devono inviare dati, questi dispongono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/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Il protocollo è decentralizza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i sono nodi m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sincronizzazione dei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Il protocollo è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55728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 ideal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0D4-9127-42AA-B861-90A471F67B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730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rendere i 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erimento affidabile dei dati, controllo del flusso: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già vis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stanziazione e implementazione delle varie tecnologie a livello di lin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4C0-D6D9-4D71-8414-086AF461A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1271520"/>
            <a:ext cx="7947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ossono classificare in una di queste tre categori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suddivisione del can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channel partition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de un canale in “parti più piccole” (slot di tempo, frequenza, codi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 alloca presos un nodo per utilizzo es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andom acces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canali non vengono divisi e si può verificare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coinvolti ritrasmettono ripetutamente i pacchet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rotazion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taking-tur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ha il suo turno di trasmissione, ma i nodi che hanno molto da trasmettere possono avere turni più lungh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96E-5D8D-45C5-BE15-59F0BE0399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1422360"/>
            <a:ext cx="8126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TDMA: accesso multiplo a divisione di tem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rni per accedere al ca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condiviso in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intervalli di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lot non usati rimangono inat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052640" y="5440320"/>
            <a:ext cx="60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5213520"/>
            <a:ext cx="4795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33440" y="521352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08280" y="5213520"/>
            <a:ext cx="47952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76200" y="510048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41800" y="510372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0240" y="5184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6680" y="5170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91800" y="5176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32440" y="5208480"/>
            <a:ext cx="4791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91120" y="5208480"/>
            <a:ext cx="47952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5600" y="520848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33880" y="50958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37920" y="5180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4000" y="516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49120" y="5172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575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3344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0972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600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6696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1484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0240" y="51958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4368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91200" y="51102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911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4160" y="4586400"/>
            <a:ext cx="7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-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491796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87360" y="49132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6840" y="4826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25960" y="478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C72-8D91-4C7A-9A4E-60896D1A84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FDMA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32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120" y="1065240"/>
            <a:ext cx="845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FDMA: accesso multiplo a divisione di frequenz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in bande di frequenz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ciascuna stazione è assegnata una banda di frequenza prefiss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564" name="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3225960" y="4841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a di freq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67200">
            <a:off x="7309440" y="3966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31840" y="4348080"/>
            <a:ext cx="595440" cy="1538280"/>
          </a:xfrm>
          <a:custGeom>
            <a:avLst/>
            <a:gdLst/>
            <a:ahLst/>
            <a:rect l="l" t="t" r="r" b="b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93760" y="4986360"/>
            <a:ext cx="1666440" cy="314280"/>
            <a:chOff x="293760" y="4986360"/>
            <a:chExt cx="1666440" cy="314280"/>
          </a:xfrm>
        </p:grpSpPr>
        <p:sp>
          <p:nvSpPr>
            <p:cNvPr id="572" name=""/>
            <p:cNvSpPr/>
            <p:nvPr/>
          </p:nvSpPr>
          <p:spPr>
            <a:xfrm>
              <a:off x="1474560" y="49960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3760" y="4986360"/>
              <a:ext cx="1422000" cy="314280"/>
            </a:xfrm>
            <a:custGeom>
              <a:avLst/>
              <a:gdLst/>
              <a:ahLst/>
              <a:rect l="l" t="t" r="r" b="b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3160" y="50054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51292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03680" y="5040360"/>
            <a:ext cx="892080" cy="17316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46520" y="4270320"/>
            <a:ext cx="426960" cy="21924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55800" y="6068880"/>
            <a:ext cx="989280" cy="185760"/>
          </a:xfrm>
          <a:custGeom>
            <a:avLst/>
            <a:gdLst/>
            <a:ahLst/>
            <a:rect l="l" t="t" r="r" b="b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720" y="57038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vo 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142-6ED7-4798-9929-7BE3ABA726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d accesso casua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ndo un nodo deve inviar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mette sempre alla massima velocità consentita dal canale, cioè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vi è coordinazione a priori tra i nod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o più nodi trasmittenti </a:t>
            </a:r>
            <a:r>
              <a:rPr b="0" lang="it-IT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“collision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l protocollo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sc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levare un’eventuale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trasmettere se si è verificata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di protocolli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5A1-B930-492F-8B45-1708BF3F0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ssumiam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tti i pacchetti hanno la stessa dimension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tempo è suddiviso in slot; ogni slot equivale al tempo di trasmissione di un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iniziano la trasmissione dei pacchetti solo all’inizio degli s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sono sincronizz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in uno slot due o più pacchetti collidono, i nodi coinvolti rilevano l’evento prima del termine dello s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zion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a un nodo arriva un nuovo pacchetto da spedire, il nodo attende fino all’inizio dello slot success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non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può trasmettere un nuovo pacchetto nello slot success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la rileva prima della fine dello slot e ritrasmette con probabilità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suo pacchetto durante gli slot successiv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F1D-BEF8-4D60-866F-9C7F976118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840" y="3040200"/>
            <a:ext cx="4016160" cy="32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un singolo nodo di trasmettere continuamente pacchetti alla massima velocità del ca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fortemente decentralizzato, ciascun nodo rileva le collisioni e decide indipendentemente quando ritrasmette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estremamente sempli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495680" y="304956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certa frazione degli slot presenterà collisioni e di conseguenza andrà “sprecata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’alta frazione degli slot rimane vuota, quindi inatt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89920" cy="1954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438-851E-464C-A10E-DDF2C08747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08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38102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pponiamo N nodi con pacchetti da spedire, ognuno trasmette i pacchetti in uno slot con probabilità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di successo di un dato nod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che un nodo arbitrario abbia suc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N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48000" y="1107720"/>
            <a:ext cx="38098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ottenere la massima efficienza con N nodi attivi, bisogna trovare il valore p* che massimizz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un elevato numero di nodi, ricaviamo il limite di Np*(1-p*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N che tende all’infinito, e otterremo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361800" y="1143000"/>
            <a:ext cx="4614840" cy="161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fficienz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definita come la frazione di slot vincenti in presenza di un elevato numero di nodi attivi, che hanno sempre un elevato numero pacchetti da sped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40320" y="4576680"/>
            <a:ext cx="2897280" cy="100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Nel caso miglior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lo il 37% degli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ie lavoro ut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50920" y="420048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128-1EE4-4D45-860B-CCAD1DCCE0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0560" y="1182600"/>
            <a:ext cx="834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loha puro: più semplice, non sincronizza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arriva il primo pacchett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trasmette immediatamente e integralmente nel canale broadca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levate probabilità di collisione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pacchetto trasmesso a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 sovrappone con la trasmissione dell’altro pacchetto inviato in [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1]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rcRect l="8339" t="6554" r="3537" b="5298"/>
          <a:stretch/>
        </p:blipFill>
        <p:spPr>
          <a:xfrm>
            <a:off x="2108160" y="4392720"/>
            <a:ext cx="553392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D8C-7DFA-4710-9DD7-E97D9AEAD2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37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132876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issione con successo da un dato nod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= 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trasmet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…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scegliendo p migliore e lasciando n -&gt; infinit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= 1/(2e) = 0,18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461600" y="52243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ggio di pri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4FA-7FA3-4F02-82FA-7AFCF92A41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Accesso multiplo a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lla portante (CSMA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78920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i pone in ascolto prima di trasmette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rileva che il canale è libero, trasmette l‘intero pacchet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il canale sta già trasmettendo, il nodo aspetta un altro intervallo di tempo.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 se qualcun altro sta parlando, aspettate finché abbia conclus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3C4-01F6-4C89-B695-932E053E64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71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1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4FB-6A83-40BF-A643-6225EC2731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 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on trasmissioni in collis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8480" y="1301760"/>
            <a:ext cx="4128840" cy="48625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07800" y="1231920"/>
            <a:ext cx="37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Le collisioni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posson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ancora verificar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ritardo di propagazione fa sì che due nodi non rilevino la reciproca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000" y="2975040"/>
            <a:ext cx="397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collis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nodo rileva una collisione, cessa immediatamente la trasmiss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6211800"/>
            <a:ext cx="23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agramma spazio t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2200" y="4716360"/>
            <a:ext cx="413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distanza e il ritardo di propagazione giocano un ruolo importante nel determinare la probabilità di collis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3BE-83BA-40C9-9C2C-FAA0446DDC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rilevazione di collisione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rilevamento della portante differito, come in CS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leva la collisione in poco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nulla la trasmissione non appena si accorge che c’è un’altra trasmissione in cor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levazione della colli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cile nelle LAN cabl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fficile nelle LAN wirel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ogia: un interlocutore educ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D80-F830-433F-95AC-85D76E551F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9520" y="2646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ilevazione di collisione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855800" y="1531800"/>
            <a:ext cx="4433760" cy="38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20F-DDC0-409E-AB92-A5DE1F1D4C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MAC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 suddivisione del can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ondividono il canale equamente ed efficientemente con carichi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efficienti con carichi non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fficienti anche con carichi non elevati: un singolo nodo può utilizzare interamente il canal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richi elevati: eccesso di collision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endono il meglio dei due protocolli precedenti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01E-0E62-450A-9D50-8FF0013C52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41240" y="1108080"/>
            <a:ext cx="34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polling: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nodo principale sonda “a turno” gli alt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le collis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gli slot vu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tardo di po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il nodo principale (master) si guasta, l’intero canale resta inat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569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H="1">
            <a:off x="5555880" y="2717640"/>
            <a:ext cx="92700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97760" y="2768760"/>
            <a:ext cx="25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10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42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5925960" y="329724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15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654520" y="3825720"/>
            <a:ext cx="25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88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5383080" y="435456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84280" y="31417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4000" y="47116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7093080" y="2641680"/>
            <a:ext cx="560160" cy="337320"/>
            <a:chOff x="7093080" y="2641680"/>
            <a:chExt cx="560160" cy="337320"/>
          </a:xfrm>
        </p:grpSpPr>
        <p:sp>
          <p:nvSpPr>
            <p:cNvPr id="636" name=""/>
            <p:cNvSpPr/>
            <p:nvPr/>
          </p:nvSpPr>
          <p:spPr>
            <a:xfrm>
              <a:off x="709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149440" y="3564000"/>
            <a:ext cx="587880" cy="337320"/>
            <a:chOff x="5149440" y="3564000"/>
            <a:chExt cx="587880" cy="337320"/>
          </a:xfrm>
        </p:grpSpPr>
        <p:sp>
          <p:nvSpPr>
            <p:cNvPr id="639" name=""/>
            <p:cNvSpPr/>
            <p:nvPr/>
          </p:nvSpPr>
          <p:spPr>
            <a:xfrm>
              <a:off x="517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49440" y="35640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655960" y="2446200"/>
            <a:ext cx="587160" cy="337320"/>
            <a:chOff x="5655960" y="2446200"/>
            <a:chExt cx="587160" cy="337320"/>
          </a:xfrm>
        </p:grpSpPr>
        <p:sp>
          <p:nvSpPr>
            <p:cNvPr id="642" name=""/>
            <p:cNvSpPr/>
            <p:nvPr/>
          </p:nvSpPr>
          <p:spPr>
            <a:xfrm>
              <a:off x="5682960" y="2498400"/>
              <a:ext cx="56016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55960" y="24462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2E4-F51A-4DF0-9259-42CFCE8458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425520" y="1039680"/>
            <a:ext cx="4162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token-pa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messaggio di controllo circola fra i nodi seguendo un ordine prefiss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ssaggio di controll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ke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centralizzato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amente ef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uasto di un nodo può mettere fuori uso l’intero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835680" y="170964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5680" y="170964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6138720" y="2220840"/>
            <a:ext cx="204660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6953400" y="5130720"/>
          <a:ext cx="5220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3400" y="513072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5492880" y="3327480"/>
          <a:ext cx="52200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2880" y="332748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329680" y="32846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9680" y="32846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983280" y="1328760"/>
            <a:ext cx="27468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27680" y="5611680"/>
            <a:ext cx="811440" cy="320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66280" y="26398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ient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i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16720" y="3346560"/>
            <a:ext cx="27432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1F5-0C27-47CA-BD59-7E1A51DCCC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: riepilo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520" y="120312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sa si può fare con un canale condivis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del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: tempo, frequenza, cod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DM, FD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casu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dinamica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mento della portante: facile in alcune tecnologie (cablate), difficile in altre (wirele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D usato in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A usato i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lling con un nodo principale; a passaggio di testim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luetooth, FDDI, IBM Token 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D2D-D46B-4BBD-A983-C1DA938A4A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4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DAA-547E-47A3-AE54-90705793E1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AC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IP a 32 bi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l’indirizzo postale di una persona: hanno una struttura gerarchica e devono esser aggiornati quando una persona cambia residenz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MAC (o LAN o fisico o Ethernet)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numero di codice fiscale di una persona: ha una struttura orizzontale  e non varia a seconda del luogo in cui la persona si trasferis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 48 bit (per la maggior parte delle LAN)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CA0-BC6D-42B1-9058-72F03558AF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 LAN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745200" y="131436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iascun adattatore di una LAN ha un indirizzo LAN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univo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61120" y="249084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dirizzo broadcas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76720" y="38955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 adat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4120" y="2052720"/>
            <a:ext cx="5915880" cy="4279680"/>
            <a:chOff x="384120" y="2052720"/>
            <a:chExt cx="5915880" cy="427968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2967120" y="205272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152800" y="32623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5167440" y="3868560"/>
              <a:ext cx="6109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3"/>
            <a:stretch/>
          </p:blipFill>
          <p:spPr>
            <a:xfrm>
              <a:off x="2952720" y="581184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4"/>
            <a:stretch/>
          </p:blipFill>
          <p:spPr>
            <a:xfrm>
              <a:off x="492120" y="37116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968720" y="401796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38240" y="383544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38560" y="25462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71960" y="55576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00320" y="394020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09840" y="280836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3480" y="4108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71680" y="511308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96120" y="2516040"/>
              <a:ext cx="176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A-2F-BB-76-09-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438000" y="2652480"/>
              <a:ext cx="257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087880" y="421164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0120" y="4602240"/>
              <a:ext cx="173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8-23-D7-FA-20-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374640" y="566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44080" y="555480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C-C4-11-6F-E3-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170000" y="40402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4120" y="4473720"/>
              <a:ext cx="17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-65-F7-2B-08-5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40240" y="3625920"/>
              <a:ext cx="122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(cablata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wirele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330-1AB5-495C-9AB2-241B86355C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: introduz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2200" y="1218960"/>
            <a:ext cx="4402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Alcuni termini util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ost e router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o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canali di comunicazione che collegano nodi adiacenti lungo un cammino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llegamenti (link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cablat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wirel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unità di dati scambiate dai protocolli a livello di link sono chiamat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45160" y="922320"/>
            <a:ext cx="4182840" cy="4878360"/>
            <a:chOff x="4745160" y="922320"/>
            <a:chExt cx="4182840" cy="4878360"/>
          </a:xfrm>
        </p:grpSpPr>
        <p:sp>
          <p:nvSpPr>
            <p:cNvPr id="52" name=""/>
            <p:cNvSpPr/>
            <p:nvPr/>
          </p:nvSpPr>
          <p:spPr>
            <a:xfrm>
              <a:off x="6881760" y="14857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45160" y="1311120"/>
              <a:ext cx="2122560" cy="19432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4200" y="3085920"/>
              <a:ext cx="3382920" cy="271476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8360" y="1476360"/>
              <a:ext cx="834840" cy="390600"/>
              <a:chOff x="4878360" y="1476360"/>
              <a:chExt cx="834840" cy="39060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8360" y="147636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4960" y="162108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flipV="1">
                <a:off x="5340960" y="177228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878360" y="2205000"/>
              <a:ext cx="834840" cy="390600"/>
              <a:chOff x="4878360" y="2205000"/>
              <a:chExt cx="834840" cy="390600"/>
            </a:xfrm>
          </p:grpSpPr>
          <p:pic>
            <p:nvPicPr>
              <p:cNvPr id="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8360" y="220500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234972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flipV="1">
                <a:off x="5340960" y="250092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07120" y="1944720"/>
              <a:ext cx="78840" cy="261360"/>
              <a:chOff x="5307120" y="1944720"/>
              <a:chExt cx="78840" cy="261360"/>
            </a:xfrm>
          </p:grpSpPr>
          <p:sp>
            <p:nvSpPr>
              <p:cNvPr id="64" name=""/>
              <p:cNvSpPr/>
              <p:nvPr/>
            </p:nvSpPr>
            <p:spPr>
              <a:xfrm>
                <a:off x="5307120" y="1944720"/>
                <a:ext cx="72720" cy="73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10000" y="203868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13240" y="213264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840640" y="2560680"/>
              <a:ext cx="237960" cy="482040"/>
              <a:chOff x="5840640" y="2560680"/>
              <a:chExt cx="237960" cy="482040"/>
            </a:xfrm>
          </p:grpSpPr>
          <p:sp>
            <p:nvSpPr>
              <p:cNvPr id="68" name=""/>
              <p:cNvSpPr/>
              <p:nvPr/>
            </p:nvSpPr>
            <p:spPr>
              <a:xfrm>
                <a:off x="5840640" y="29314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961240" y="2563560"/>
                <a:ext cx="109440" cy="37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42080" y="2668680"/>
                <a:ext cx="150840" cy="37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40640" y="25606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78600" y="256824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992920" y="2931480"/>
                <a:ext cx="856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1160" y="2717640"/>
                <a:ext cx="100080" cy="213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75560" y="2782080"/>
                <a:ext cx="75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110280" y="2748240"/>
              <a:ext cx="265320" cy="99720"/>
              <a:chOff x="6110280" y="2748240"/>
              <a:chExt cx="265320" cy="99720"/>
            </a:xfrm>
          </p:grpSpPr>
          <p:sp>
            <p:nvSpPr>
              <p:cNvPr id="77" name=""/>
              <p:cNvSpPr/>
              <p:nvPr/>
            </p:nvSpPr>
            <p:spPr>
              <a:xfrm rot="16200000">
                <a:off x="6101640" y="2764440"/>
                <a:ext cx="91800" cy="748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6200000">
                <a:off x="6197040" y="276084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200000">
                <a:off x="6292440" y="275688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96160" y="244800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99400" y="2442960"/>
              <a:ext cx="28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62800" y="244152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54880" y="1787400"/>
              <a:ext cx="32832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668920" y="2136600"/>
              <a:ext cx="31428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69040" y="2241360"/>
              <a:ext cx="18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404040" y="2531880"/>
              <a:ext cx="237960" cy="483840"/>
              <a:chOff x="6404040" y="2531880"/>
              <a:chExt cx="237960" cy="483840"/>
            </a:xfrm>
          </p:grpSpPr>
          <p:sp>
            <p:nvSpPr>
              <p:cNvPr id="87" name=""/>
              <p:cNvSpPr/>
              <p:nvPr/>
            </p:nvSpPr>
            <p:spPr>
              <a:xfrm>
                <a:off x="6404040" y="290412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24640" y="2534760"/>
                <a:ext cx="109440" cy="371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05480" y="2640240"/>
                <a:ext cx="150840" cy="372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04040" y="253188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42000" y="2539440"/>
                <a:ext cx="0" cy="36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556320" y="2904120"/>
                <a:ext cx="8568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4560" y="2689560"/>
                <a:ext cx="100080" cy="21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38960" y="2754000"/>
                <a:ext cx="7596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315040" y="3289320"/>
              <a:ext cx="546120" cy="1132920"/>
              <a:chOff x="5315040" y="3289320"/>
              <a:chExt cx="546120" cy="1132920"/>
            </a:xfrm>
          </p:grpSpPr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5040" y="328932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flipV="1">
                <a:off x="5778360" y="3591360"/>
                <a:ext cx="8280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5040" y="401724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flipV="1">
                <a:off x="5778360" y="4323960"/>
                <a:ext cx="828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457960" y="3707280"/>
                <a:ext cx="81000" cy="272160"/>
                <a:chOff x="5457960" y="3707280"/>
                <a:chExt cx="81000" cy="272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57960" y="3707280"/>
                  <a:ext cx="74520" cy="766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61200" y="380520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64440" y="390312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5854680" y="3587760"/>
                <a:ext cx="0" cy="73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6302520" y="4524480"/>
              <a:ext cx="4762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5603760" y="4511520"/>
              <a:ext cx="473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6200000">
              <a:off x="6076080" y="464076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6172200" y="4638600"/>
              <a:ext cx="7776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6260040" y="464400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591240" y="4458960"/>
              <a:ext cx="32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881680" y="4444920"/>
              <a:ext cx="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84920" y="445284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861160" y="3993840"/>
              <a:ext cx="1062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450200" y="4046400"/>
              <a:ext cx="31752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7651800" y="3500280"/>
              <a:ext cx="2318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6131160" y="3598920"/>
              <a:ext cx="23148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22960" y="3322440"/>
              <a:ext cx="1540080" cy="3733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526440" y="5062320"/>
              <a:ext cx="462960" cy="522000"/>
              <a:chOff x="6526440" y="5062320"/>
              <a:chExt cx="462960" cy="52200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26440" y="5062320"/>
                <a:ext cx="43128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94480" y="5199120"/>
                <a:ext cx="394920" cy="385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7412040" y="5102280"/>
              <a:ext cx="461520" cy="521640"/>
              <a:chOff x="7412040" y="5102280"/>
              <a:chExt cx="461520" cy="5216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2040" y="5102280"/>
                <a:ext cx="429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80080" y="5239080"/>
                <a:ext cx="393480" cy="384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"/>
            <p:cNvGrpSpPr/>
            <p:nvPr/>
          </p:nvGrpSpPr>
          <p:grpSpPr>
            <a:xfrm>
              <a:off x="6940440" y="4754520"/>
              <a:ext cx="432000" cy="460080"/>
              <a:chOff x="6940440" y="4754520"/>
              <a:chExt cx="432000" cy="46008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40440" y="4754520"/>
                <a:ext cx="43200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7066080" y="4916160"/>
                <a:ext cx="304560" cy="29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288200" y="46353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8109000" y="3930480"/>
              <a:ext cx="236520" cy="501480"/>
              <a:chOff x="8109000" y="3930480"/>
              <a:chExt cx="236520" cy="501480"/>
            </a:xfrm>
          </p:grpSpPr>
          <p:sp>
            <p:nvSpPr>
              <p:cNvPr id="129" name=""/>
              <p:cNvSpPr/>
              <p:nvPr/>
            </p:nvSpPr>
            <p:spPr>
              <a:xfrm>
                <a:off x="8109000" y="431604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28520" y="3933720"/>
                <a:ext cx="108720" cy="3852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10080" y="4042800"/>
                <a:ext cx="149760" cy="385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09000" y="393048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45520" y="393840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260200" y="4316040"/>
                <a:ext cx="8496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29160" y="4093920"/>
                <a:ext cx="99360" cy="222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143560" y="4160880"/>
                <a:ext cx="752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094600" y="4475160"/>
              <a:ext cx="236520" cy="499680"/>
              <a:chOff x="8094600" y="4475160"/>
              <a:chExt cx="236520" cy="499680"/>
            </a:xfrm>
          </p:grpSpPr>
          <p:sp>
            <p:nvSpPr>
              <p:cNvPr id="138" name=""/>
              <p:cNvSpPr/>
              <p:nvPr/>
            </p:nvSpPr>
            <p:spPr>
              <a:xfrm>
                <a:off x="8094600" y="485928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214120" y="4478400"/>
                <a:ext cx="108720" cy="383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95680" y="4587120"/>
                <a:ext cx="149760" cy="384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94600" y="447516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31120" y="448308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245800" y="4859280"/>
                <a:ext cx="8496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114760" y="4637880"/>
                <a:ext cx="99360" cy="221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29160" y="4704840"/>
                <a:ext cx="752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8016840" y="401436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2160" y="475920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8920" y="4176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558120" y="1800000"/>
              <a:ext cx="5205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560" y="1830240"/>
              <a:ext cx="5526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12320" y="2241360"/>
              <a:ext cx="27288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5720" y="1966680"/>
              <a:ext cx="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64520" y="2759040"/>
              <a:ext cx="608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888320" y="3328920"/>
              <a:ext cx="30312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629120" y="2201760"/>
              <a:ext cx="63828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640280" y="1517760"/>
              <a:ext cx="39852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6400" y="1731960"/>
              <a:ext cx="2300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67360" y="1966680"/>
              <a:ext cx="569880" cy="285480"/>
              <a:chOff x="5967360" y="1966680"/>
              <a:chExt cx="569880" cy="285480"/>
            </a:xfrm>
          </p:grpSpPr>
          <p:sp>
            <p:nvSpPr>
              <p:cNvPr id="159" name=""/>
              <p:cNvSpPr/>
              <p:nvPr/>
            </p:nvSpPr>
            <p:spPr>
              <a:xfrm>
                <a:off x="5971680" y="20941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168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3724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1680" y="20808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67360" y="19666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103080" y="2007360"/>
                <a:ext cx="279720" cy="107640"/>
                <a:chOff x="6103080" y="2007360"/>
                <a:chExt cx="279720" cy="107640"/>
              </a:xfrm>
            </p:grpSpPr>
            <p:sp>
              <p:nvSpPr>
                <p:cNvPr id="165" name=""/>
                <p:cNvSpPr/>
                <p:nvPr/>
              </p:nvSpPr>
              <p:spPr>
                <a:xfrm flipV="1">
                  <a:off x="6103080" y="20073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294960" y="21150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94880" y="20095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103080" y="2005560"/>
                <a:ext cx="279720" cy="107640"/>
                <a:chOff x="6103080" y="2005560"/>
                <a:chExt cx="279720" cy="10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103080" y="21110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94960" y="20055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194880" y="20055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050240" y="1687320"/>
              <a:ext cx="571320" cy="285480"/>
              <a:chOff x="7050240" y="1687320"/>
              <a:chExt cx="571320" cy="285480"/>
            </a:xfrm>
          </p:grpSpPr>
          <p:sp>
            <p:nvSpPr>
              <p:cNvPr id="173" name=""/>
              <p:cNvSpPr/>
              <p:nvPr/>
            </p:nvSpPr>
            <p:spPr>
              <a:xfrm>
                <a:off x="7054560" y="1814760"/>
                <a:ext cx="56664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4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21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54560" y="1801440"/>
                <a:ext cx="5616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50240" y="1687320"/>
                <a:ext cx="56628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7186320" y="1728000"/>
                <a:ext cx="280440" cy="107640"/>
                <a:chOff x="7186320" y="1728000"/>
                <a:chExt cx="280440" cy="10764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7186320" y="172800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78560" y="183564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278480" y="173016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186320" y="1726200"/>
                <a:ext cx="280440" cy="107640"/>
                <a:chOff x="7186320" y="1726200"/>
                <a:chExt cx="280440" cy="107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186320" y="183168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78560" y="172620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278480" y="172620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7070760" y="2492280"/>
              <a:ext cx="569880" cy="285480"/>
              <a:chOff x="7070760" y="2492280"/>
              <a:chExt cx="569880" cy="285480"/>
            </a:xfrm>
          </p:grpSpPr>
          <p:sp>
            <p:nvSpPr>
              <p:cNvPr id="187" name=""/>
              <p:cNvSpPr/>
              <p:nvPr/>
            </p:nvSpPr>
            <p:spPr>
              <a:xfrm>
                <a:off x="7075080" y="26197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7508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4064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75080" y="26064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70760" y="24922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206480" y="2532960"/>
                <a:ext cx="279720" cy="107640"/>
                <a:chOff x="7206480" y="2532960"/>
                <a:chExt cx="279720" cy="10764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7206480" y="25329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98360" y="26406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98280" y="25351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206480" y="2531160"/>
                <a:ext cx="279720" cy="107640"/>
                <a:chOff x="7206480" y="2531160"/>
                <a:chExt cx="279720" cy="107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206480" y="2636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98360" y="25311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7298280" y="25311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8174160" y="1942920"/>
              <a:ext cx="568440" cy="284040"/>
              <a:chOff x="8174160" y="1942920"/>
              <a:chExt cx="568440" cy="284040"/>
            </a:xfrm>
          </p:grpSpPr>
          <p:sp>
            <p:nvSpPr>
              <p:cNvPr id="201" name=""/>
              <p:cNvSpPr/>
              <p:nvPr/>
            </p:nvSpPr>
            <p:spPr>
              <a:xfrm>
                <a:off x="8178480" y="2069640"/>
                <a:ext cx="56376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17848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4260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178480" y="2056320"/>
                <a:ext cx="55872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174160" y="1942920"/>
                <a:ext cx="56340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309520" y="1983240"/>
                <a:ext cx="278640" cy="107280"/>
                <a:chOff x="8309520" y="1983240"/>
                <a:chExt cx="278640" cy="10728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8309520" y="1983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00680" y="209052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401320" y="19854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309520" y="1981800"/>
                <a:ext cx="278640" cy="107280"/>
                <a:chOff x="8309520" y="1981800"/>
                <a:chExt cx="278640" cy="10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309520" y="2086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500680" y="1981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8401320" y="1981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7953480" y="3039840"/>
              <a:ext cx="569880" cy="284040"/>
              <a:chOff x="7953480" y="3039840"/>
              <a:chExt cx="569880" cy="284040"/>
            </a:xfrm>
          </p:grpSpPr>
          <p:sp>
            <p:nvSpPr>
              <p:cNvPr id="215" name=""/>
              <p:cNvSpPr/>
              <p:nvPr/>
            </p:nvSpPr>
            <p:spPr>
              <a:xfrm>
                <a:off x="7957800" y="316656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5780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2336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57800" y="315324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3480" y="303984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8089200" y="3080160"/>
                <a:ext cx="279720" cy="107280"/>
                <a:chOff x="8089200" y="3080160"/>
                <a:chExt cx="279720" cy="1072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8089200" y="30801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81080" y="31874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81000" y="30823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8089200" y="3078720"/>
                <a:ext cx="279720" cy="107280"/>
                <a:chOff x="8089200" y="3078720"/>
                <a:chExt cx="279720" cy="107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89200" y="31838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81080" y="30787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8181000" y="30787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7574040" y="3754440"/>
              <a:ext cx="569880" cy="286920"/>
              <a:chOff x="7574040" y="3754440"/>
              <a:chExt cx="569880" cy="286920"/>
            </a:xfrm>
          </p:grpSpPr>
          <p:sp>
            <p:nvSpPr>
              <p:cNvPr id="229" name=""/>
              <p:cNvSpPr/>
              <p:nvPr/>
            </p:nvSpPr>
            <p:spPr>
              <a:xfrm>
                <a:off x="7578360" y="3882600"/>
                <a:ext cx="565200" cy="158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7836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4392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78360" y="3868920"/>
                <a:ext cx="560160" cy="97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74040" y="3754440"/>
                <a:ext cx="564840" cy="185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7709760" y="3795120"/>
                <a:ext cx="279720" cy="108360"/>
                <a:chOff x="7709760" y="3795120"/>
                <a:chExt cx="279720" cy="10836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7709760" y="37951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01640" y="39034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01560" y="379728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709760" y="3793320"/>
                <a:ext cx="279720" cy="108360"/>
                <a:chOff x="7709760" y="3793320"/>
                <a:chExt cx="279720" cy="1083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709760" y="38995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01640" y="37933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801560" y="379332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880320" y="4352760"/>
              <a:ext cx="569880" cy="284040"/>
              <a:chOff x="6880320" y="4352760"/>
              <a:chExt cx="569880" cy="28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884640" y="447948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8464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020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84640" y="446616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80320" y="435276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16040" y="4393080"/>
                <a:ext cx="279720" cy="107280"/>
                <a:chOff x="7016040" y="4393080"/>
                <a:chExt cx="279720" cy="1072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016040" y="43930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07920" y="45003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07840" y="43952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016040" y="4391640"/>
                <a:ext cx="279720" cy="107280"/>
                <a:chOff x="7016040" y="4391640"/>
                <a:chExt cx="279720" cy="107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16040" y="44967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207920" y="43916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107840" y="43916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5967360" y="3892320"/>
              <a:ext cx="569880" cy="284040"/>
              <a:chOff x="5967360" y="3892320"/>
              <a:chExt cx="569880" cy="284040"/>
            </a:xfrm>
          </p:grpSpPr>
          <p:sp>
            <p:nvSpPr>
              <p:cNvPr id="257" name=""/>
              <p:cNvSpPr/>
              <p:nvPr/>
            </p:nvSpPr>
            <p:spPr>
              <a:xfrm>
                <a:off x="5971680" y="401904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7168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724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71680" y="400572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67360" y="389232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103080" y="3932640"/>
                <a:ext cx="279720" cy="107280"/>
                <a:chOff x="6103080" y="3932640"/>
                <a:chExt cx="279720" cy="10728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6103080" y="3932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94960" y="40399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94880" y="39348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103080" y="3931200"/>
                <a:ext cx="279720" cy="107280"/>
                <a:chOff x="6103080" y="3931200"/>
                <a:chExt cx="279720" cy="107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103080" y="40363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94960" y="39312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194880" y="39312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6249960" y="418464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824880" y="5103720"/>
              <a:ext cx="330120" cy="17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215120" y="4494240"/>
              <a:ext cx="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0640" y="4029120"/>
              <a:ext cx="5619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4960" y="4114800"/>
              <a:ext cx="611280" cy="36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275520" y="3870000"/>
              <a:ext cx="14047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021520" y="3224160"/>
              <a:ext cx="3906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7472520" y="2721960"/>
              <a:ext cx="573120" cy="4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459560" y="1904400"/>
              <a:ext cx="0" cy="59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519960" y="1917720"/>
              <a:ext cx="598320" cy="28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1760" y="2198520"/>
              <a:ext cx="255600" cy="36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83400" y="1135080"/>
              <a:ext cx="263520" cy="892080"/>
            </a:xfrm>
            <a:custGeom>
              <a:avLst/>
              <a:gdLst/>
              <a:ahLst/>
              <a:rect l="l" t="t" r="r" b="b"/>
              <a:pathLst>
                <a:path w="166" h="562">
                  <a:moveTo>
                    <a:pt x="166" y="0"/>
                  </a:moveTo>
                  <a:cubicBezTo>
                    <a:pt x="118" y="34"/>
                    <a:pt x="70" y="69"/>
                    <a:pt x="43" y="123"/>
                  </a:cubicBezTo>
                  <a:cubicBezTo>
                    <a:pt x="16" y="177"/>
                    <a:pt x="0" y="250"/>
                    <a:pt x="5" y="323"/>
                  </a:cubicBezTo>
                  <a:cubicBezTo>
                    <a:pt x="10" y="396"/>
                    <a:pt x="63" y="522"/>
                    <a:pt x="74" y="56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23520" y="92232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24920" y="5297400"/>
            <a:ext cx="6805440" cy="109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I protocolli a livello di collegamento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si occup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 trasporto di datagrammi lungo un singo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nale di comunic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A98-6B24-4327-BABA-2E248DAAA9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IEEE sovrintende alla gestione degli indirizzi MA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a società vuole costruire adattatori, compra un blocco di spazio di indirizzi (unicità degli indirizz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a) Indirizzo MAC: come il codice fisc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b) Indirizzo IP: come l’indirizzo post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orizzontale MAC </a:t>
            </a:r>
            <a:r>
              <a:rPr b="0" lang="it-IT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ortabil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spostare una scheda LAN da una LAN a un’altr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indirizzi IP hanno una struttura gerarchica e devono essere aggiornati se spost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pendono dalla sottorete IP cui il nodo è collega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6C3-FCFE-4215-9D31-A0FB333F67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er la risolu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gli indirizzi (AR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08240" y="1474560"/>
            <a:ext cx="423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gni nodo IP (host, router) nella LAN ha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abella AR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bella ARP: contiene la corrispondenza tra indirizzi IP e MA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&lt; Indirizzo IP; Indirizz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TL (tempo di vita): valore che indica quando bisognerà eliminare una data voce nella tabella (il tempo di vita tipico è di 20 mi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30040" y="1487520"/>
            <a:ext cx="4343400" cy="1278000"/>
            <a:chOff x="230040" y="1487520"/>
            <a:chExt cx="4343400" cy="1278000"/>
          </a:xfrm>
        </p:grpSpPr>
        <p:sp>
          <p:nvSpPr>
            <p:cNvPr id="698" name=""/>
            <p:cNvSpPr/>
            <p:nvPr/>
          </p:nvSpPr>
          <p:spPr>
            <a:xfrm>
              <a:off x="393480" y="1557360"/>
              <a:ext cx="383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omanda: come si determ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l’indirizzo MAC di B se 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conosce solo l’indirizzo IP di B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040" y="1487520"/>
              <a:ext cx="43434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7208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6784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80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192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5668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4268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044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AB7-0B4E-40C9-A63B-269D03D4C8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ARP nella stessa sottore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4040" y="1119240"/>
            <a:ext cx="41594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vuole inviare un datagramma 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e l’indirizzo MAC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non è nella tabella ARP 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trasmette in un pacchetto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messaggio di richiesta ARP, contenente l’indirizzo IP di 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rizzo MAC del destinatar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utte le macchine della  LAN ricevono una richiesta AR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iceve il pacchetto ARP, e risponde ad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municandogli il proprio indirizzo MA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rame viene inviato all’indirizzo MAC di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06840" y="1149120"/>
            <a:ext cx="38102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essaggio di richiesta ARP è inviato in un pacchetto broadcast mentre il messaggio di risposta ARP è inviato in un pacchetto stand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RP è “plug-and-play”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abella ARP di un nodo si costituisce automaticamente e non deve essere configurata dall’amministratore del sistem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058-4AF4-4ABB-8CB5-BABB097F25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6208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vio verso un nodo esterno alla sottore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vio di un datagramma da A a B attraverso 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ipotizzando che A conosca l’indirizzo IP di 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ue tabelle ARP nel router R, una per ciascuna rete IP (LAN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3080" y="2328840"/>
            <a:ext cx="7332120" cy="2746080"/>
            <a:chOff x="793080" y="2328840"/>
            <a:chExt cx="7332120" cy="2746080"/>
          </a:xfrm>
        </p:grpSpPr>
        <p:sp>
          <p:nvSpPr>
            <p:cNvPr id="736" name=""/>
            <p:cNvSpPr/>
            <p:nvPr/>
          </p:nvSpPr>
          <p:spPr>
            <a:xfrm>
              <a:off x="4141440" y="4239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835440" y="3404160"/>
              <a:ext cx="922320" cy="345240"/>
              <a:chOff x="3835440" y="3404160"/>
              <a:chExt cx="922320" cy="345240"/>
            </a:xfrm>
          </p:grpSpPr>
          <p:sp>
            <p:nvSpPr>
              <p:cNvPr id="738" name=""/>
              <p:cNvSpPr/>
              <p:nvPr/>
            </p:nvSpPr>
            <p:spPr>
              <a:xfrm>
                <a:off x="3842640" y="35582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84264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5776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42640" y="35420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35440" y="34041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4055400" y="3452760"/>
                <a:ext cx="452880" cy="130680"/>
                <a:chOff x="4055400" y="3452760"/>
                <a:chExt cx="452880" cy="13068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4055400" y="34527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366080" y="35834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204440" y="34556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055400" y="3451320"/>
                <a:ext cx="452880" cy="130680"/>
                <a:chOff x="4055400" y="3451320"/>
                <a:chExt cx="452880" cy="1306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055400" y="35794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366080" y="34513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4204440" y="34516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 rot="16200000">
              <a:off x="4788000" y="34858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6200000">
              <a:off x="3687840" y="34992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14800" y="30830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81040" y="37663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25240" y="3970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95360" y="28580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88880" y="47984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3080" y="42444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9" name=""/>
            <p:cNvGraphicFramePr/>
            <p:nvPr/>
          </p:nvGraphicFramePr>
          <p:xfrm>
            <a:off x="1365480" y="44377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5480" y="44377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1" name=""/>
            <p:cNvSpPr/>
            <p:nvPr/>
          </p:nvSpPr>
          <p:spPr>
            <a:xfrm rot="16200000">
              <a:off x="1816560" y="44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5800" y="32000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893520" y="2583360"/>
              <a:ext cx="844200" cy="629640"/>
              <a:chOff x="893520" y="2583360"/>
              <a:chExt cx="844200" cy="629640"/>
            </a:xfrm>
          </p:grpSpPr>
          <p:graphicFrame>
            <p:nvGraphicFramePr>
              <p:cNvPr id="764" name=""/>
              <p:cNvGraphicFramePr/>
              <p:nvPr/>
            </p:nvGraphicFramePr>
            <p:xfrm>
              <a:off x="893520" y="26010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93520" y="26010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6" name=""/>
              <p:cNvSpPr/>
              <p:nvPr/>
            </p:nvSpPr>
            <p:spPr>
              <a:xfrm>
                <a:off x="1137600" y="25833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 rot="16200000">
              <a:off x="1734840" y="27597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5560" y="2376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9" name=""/>
            <p:cNvGraphicFramePr/>
            <p:nvPr/>
          </p:nvGraphicFramePr>
          <p:xfrm>
            <a:off x="6972120" y="26078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72120" y="26078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 rot="16200000">
              <a:off x="6867720" y="26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67280" y="29523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1200" y="23288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6975000" y="3914640"/>
              <a:ext cx="843840" cy="630000"/>
              <a:chOff x="6975000" y="3914640"/>
              <a:chExt cx="843840" cy="630000"/>
            </a:xfrm>
          </p:grpSpPr>
          <p:graphicFrame>
            <p:nvGraphicFramePr>
              <p:cNvPr id="775" name=""/>
              <p:cNvGraphicFramePr/>
              <p:nvPr/>
            </p:nvGraphicFramePr>
            <p:xfrm>
              <a:off x="6975000" y="39322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75000" y="39322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7" name=""/>
              <p:cNvSpPr/>
              <p:nvPr/>
            </p:nvSpPr>
            <p:spPr>
              <a:xfrm>
                <a:off x="7202160" y="39146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6792480" y="37270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79560" y="451512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200000">
              <a:off x="6914160" y="40766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30760" y="2883960"/>
              <a:ext cx="1344240" cy="135576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43480" y="2934360"/>
              <a:ext cx="1496160" cy="135612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78840" y="28540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954800" y="42166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63480" y="36014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935600" y="35888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77280" y="40320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491520" y="27903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871640" y="46537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82360" y="25952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38600" y="30693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10320" y="32695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936480" y="42620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918120" y="25056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7CD-8239-47DB-B2E9-40524B4EF0D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485280" y="317160"/>
            <a:ext cx="80787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datagramma con origine A, e destinazione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usa ARP per ottenere l’indirizzo MAC di 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collegamento a livello di rete con l’indirizzo MAC di destinazione di R, il frame contiene il datagramma IP da A a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A invia i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R riceve il datagramm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rimuove il datagramma IP dal frame Ethernet, e vede che la sua destinazione è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usa ARP per ottenere l’indirizzo MAC d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crea un frame contenente il datagramma IP da A a B IP e lo invia a 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345680" y="4400640"/>
            <a:ext cx="6078600" cy="2223000"/>
            <a:chOff x="1345680" y="4400640"/>
            <a:chExt cx="6078600" cy="2223000"/>
          </a:xfrm>
        </p:grpSpPr>
        <p:sp>
          <p:nvSpPr>
            <p:cNvPr id="797" name=""/>
            <p:cNvSpPr/>
            <p:nvPr/>
          </p:nvSpPr>
          <p:spPr>
            <a:xfrm>
              <a:off x="4100760" y="59086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46600" y="5241600"/>
              <a:ext cx="760680" cy="275040"/>
              <a:chOff x="3846600" y="5241600"/>
              <a:chExt cx="760680" cy="275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52720" y="5364360"/>
                <a:ext cx="754560" cy="1522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5272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0728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52720" y="5351400"/>
                <a:ext cx="747720" cy="9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846600" y="5241600"/>
                <a:ext cx="754200" cy="177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" name=""/>
              <p:cNvGrpSpPr/>
              <p:nvPr/>
            </p:nvGrpSpPr>
            <p:grpSpPr>
              <a:xfrm>
                <a:off x="4028040" y="5280480"/>
                <a:ext cx="373320" cy="104040"/>
                <a:chOff x="4028040" y="5280480"/>
                <a:chExt cx="373320" cy="104040"/>
              </a:xfrm>
            </p:grpSpPr>
            <p:sp>
              <p:nvSpPr>
                <p:cNvPr id="805" name=""/>
                <p:cNvSpPr/>
                <p:nvPr/>
              </p:nvSpPr>
              <p:spPr>
                <a:xfrm flipV="1">
                  <a:off x="4028040" y="528048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284000" y="5384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150800" y="528264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028040" y="5279400"/>
                <a:ext cx="373320" cy="104040"/>
                <a:chOff x="4028040" y="5279400"/>
                <a:chExt cx="373320" cy="1040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028040" y="538164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284000" y="527940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4150800" y="527976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2" name=""/>
            <p:cNvSpPr/>
            <p:nvPr/>
          </p:nvSpPr>
          <p:spPr>
            <a:xfrm rot="16200000">
              <a:off x="4634640" y="530388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3727080" y="531468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82400" y="500364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41080" y="55515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51600" y="571284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25320" y="482472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0600" y="637740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5680" y="5933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0" name=""/>
            <p:cNvGraphicFramePr/>
            <p:nvPr/>
          </p:nvGraphicFramePr>
          <p:xfrm>
            <a:off x="1807560" y="6067440"/>
            <a:ext cx="370800" cy="26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07560" y="6067440"/>
                      <a:ext cx="37080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 rot="16200000">
              <a:off x="2181240" y="6109560"/>
              <a:ext cx="9000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05800" y="50979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1418400" y="4583520"/>
              <a:ext cx="696960" cy="503640"/>
              <a:chOff x="1418400" y="4583520"/>
              <a:chExt cx="696960" cy="503640"/>
            </a:xfrm>
          </p:grpSpPr>
          <p:graphicFrame>
            <p:nvGraphicFramePr>
              <p:cNvPr id="825" name=""/>
              <p:cNvGraphicFramePr/>
              <p:nvPr/>
            </p:nvGraphicFramePr>
            <p:xfrm>
              <a:off x="1418400" y="4597560"/>
              <a:ext cx="696960" cy="48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18400" y="459756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7" name=""/>
              <p:cNvSpPr/>
              <p:nvPr/>
            </p:nvSpPr>
            <p:spPr>
              <a:xfrm>
                <a:off x="1619280" y="45835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rot="16200000">
              <a:off x="2113560" y="4722840"/>
              <a:ext cx="90000" cy="14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71840" y="443844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"/>
            <p:cNvGraphicFramePr/>
            <p:nvPr/>
          </p:nvGraphicFramePr>
          <p:xfrm>
            <a:off x="6436080" y="4603680"/>
            <a:ext cx="369360" cy="26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36080" y="4603680"/>
                      <a:ext cx="36936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2" name=""/>
            <p:cNvSpPr/>
            <p:nvPr/>
          </p:nvSpPr>
          <p:spPr>
            <a:xfrm rot="16200000">
              <a:off x="6351840" y="466920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76960" y="48985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61880" y="440064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438600" y="5651640"/>
              <a:ext cx="696960" cy="501480"/>
              <a:chOff x="6438600" y="5651640"/>
              <a:chExt cx="696960" cy="501480"/>
            </a:xfrm>
          </p:grpSpPr>
          <p:graphicFrame>
            <p:nvGraphicFramePr>
              <p:cNvPr id="836" name=""/>
              <p:cNvGraphicFramePr/>
              <p:nvPr/>
            </p:nvGraphicFramePr>
            <p:xfrm>
              <a:off x="6438600" y="5663520"/>
              <a:ext cx="696960" cy="489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38600" y="566352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8" name=""/>
              <p:cNvSpPr/>
              <p:nvPr/>
            </p:nvSpPr>
            <p:spPr>
              <a:xfrm>
                <a:off x="6624360" y="56516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6297120" y="5519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52600" y="614988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6389640" y="577692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56560" y="4824720"/>
              <a:ext cx="1109880" cy="108468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91480" y="4865400"/>
              <a:ext cx="1235520" cy="108504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32000" y="4800600"/>
              <a:ext cx="36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95000" y="5892120"/>
              <a:ext cx="25380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57440" y="5399280"/>
              <a:ext cx="23832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754880" y="5389200"/>
              <a:ext cx="370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92360" y="5743440"/>
              <a:ext cx="16236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039000" y="4749840"/>
              <a:ext cx="2764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225520" y="6241320"/>
              <a:ext cx="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52080" y="4593600"/>
              <a:ext cx="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6680" y="49734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51200" y="5133600"/>
              <a:ext cx="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406200" y="59270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91080" y="4521240"/>
              <a:ext cx="396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857920" y="1623960"/>
            <a:ext cx="32860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Questo esempio è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lto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importan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iete sicuri di averlo compreso b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03E-233B-456E-BFF2-2187B271B8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286-619F-4B29-9A7B-1963225BD0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38360" y="1275840"/>
            <a:ext cx="7519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iene una posizione dominante nel merc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le LAN cabla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stata la prima LAN ad alta velocità con vasta diffu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iù semplice e meno costosa di token ring, FDDI e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mpre al passo dei tempi con il tasso trasmissivo: 10 Mbps - 10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830160" y="3908520"/>
            <a:ext cx="5192640" cy="2779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218280" y="4487760"/>
            <a:ext cx="26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getto originale di Bob Metcal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portò allo standard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42C-63A8-427D-B561-53B1B122C6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3333cc"/>
                </a:solidFill>
                <a:uFillTx/>
                <a:latin typeface="Comic Sans MS"/>
              </a:rPr>
              <a:t>Topologia a stella</a:t>
            </a:r>
            <a:endParaRPr b="0" lang="en-US" sz="4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7600" y="1177560"/>
            <a:ext cx="82011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pologia a bus era diffusa fino alla metà degli anni 9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si tutte le odierne reti Ethernet sono progettate con topologia a stel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centro della stella è collocato un hub o commutatore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witc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esegue un protocollo Ethernet separato e non entra in collisione con gli alt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6226200" y="5043600"/>
            <a:ext cx="417600" cy="9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7880400" y="4782960"/>
            <a:ext cx="601560" cy="4636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572000" y="478476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5138640" y="490392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70960" y="4941720"/>
            <a:ext cx="180720" cy="136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16480" y="498312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6320" y="439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746400" y="499896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556320" y="512424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69480" y="53593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834160" y="514836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83440" y="4919760"/>
            <a:ext cx="444240" cy="100080"/>
          </a:xfrm>
          <a:custGeom>
            <a:avLst/>
            <a:gdLst/>
            <a:ahLst/>
            <a:rect l="l" t="t" r="r" b="b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96120" y="4915080"/>
            <a:ext cx="230040" cy="102960"/>
          </a:xfrm>
          <a:custGeom>
            <a:avLst/>
            <a:gdLst/>
            <a:ahLst/>
            <a:rect l="l" t="t" r="r" b="b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879" name="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1" name="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3" name="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" descr=""/>
          <p:cNvPicPr/>
          <p:nvPr/>
        </p:nvPicPr>
        <p:blipFill>
          <a:blip r:embed="rId13"/>
          <a:stretch/>
        </p:blipFill>
        <p:spPr>
          <a:xfrm>
            <a:off x="6235560" y="583560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92960" y="563724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4"/>
          <a:stretch/>
        </p:blipFill>
        <p:spPr>
          <a:xfrm>
            <a:off x="6218280" y="3890880"/>
            <a:ext cx="603360" cy="4636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496200" y="4344840"/>
            <a:ext cx="1411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04720" y="59086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: cavo coass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46240" y="61977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a a 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741-CA1A-4681-AB00-A1E48D787C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79080" y="345960"/>
            <a:ext cx="8211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dattatore trasmittente incapsula i datagrammi IP in un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pacchetto Ether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eambol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pacchetti Ethernet iniziano con un campo di otto byte: sette hanno i bit 10101010 e l’ultimo è 10101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rvono per “attivare” gli adattatori dei riceventi e sincronizzare i loro orologi con quello del trasmitt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749600" y="2406600"/>
            <a:ext cx="5487840" cy="9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812-D74E-44C5-BC33-722A178EC6B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7480" y="275760"/>
            <a:ext cx="8443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dirizz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6 by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adattatore riceve un pacchetto contenente l’indirizzo di destinazione o con l’indirizzo broadcast (es.: un pacchetto ARP), trasferisce il contenuto del campo dati del pacchetto al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pacchetti con altri indirizzi MAC vengono ignor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ampo tip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Ethernet di supportare vari protocolli di rete  (in gergo questa è la funzione di “multiplexare” i protocoll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CRC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ll’adattatore ricevente di rilevare la presenza di un errore nei bit del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698400" y="5559480"/>
            <a:ext cx="75582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333-09CC-436C-855F-BA559474E0B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3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8720" y="1258920"/>
            <a:ext cx="415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datagramma può essere gestito da diversi protocoll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 collegamenti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., un datagramma può essere gestito da Ethernet sul primo collegamento, da PPP sull’ultimo e da un protocollo WAN nel collegamento intermedio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 servizi erogati dai protocolli del livello di link possono essere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d esempio, non tutti i protocolli forniscono un servizio di consegna affidab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400" y="1293840"/>
            <a:ext cx="41878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nalogia con un tour opera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viaggio da Princeton a Losann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axi: da Princeton all’aeroporto JF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ereo: dal JFK a Ginev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eno:  da Ginevra a Losa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rista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atagram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a tratt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logi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gente di viaggi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rout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C0A-61F9-4A6F-A012-2B989817A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o senza connession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non affidabi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nz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n è prevista nessuna forma di handshake preventiva con il destinatario prima di inviare un pacchet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on affidabil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’adattatore ricevente non invia un riscontro né se un pacchetto supera il controllo CRC né in caso contra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lusso dei datagrammi che attraversano il livello di rete può presentare delle lacu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pplicazione può rilevare le lacune se viene impiegato TC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imenti, potrebbe accusare problemi a causa dell’incompletezza dei d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5C0-40B2-445F-BF2C-D48D8F37B47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47600" y="15840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asi operativ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del protocollo CSMA/C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52000" y="1643040"/>
            <a:ext cx="435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. L’adattatore riceve un datagramma di rete dal nodo cui è collegato e prepara un pacchetto Eth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. Se il canale è inattivo, inizia la trasmissione. Se il canale risulta occupato, resta in attesa fino a quando non rileva più il seg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. Verifica, durante la trasmissione, la presenza di eventuali segnali provenienti da altri adattatori. Se non ne rileva, considera il pacchetto spedi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50840" y="1692000"/>
            <a:ext cx="433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. Se rileva segnali da altri adattatori, interrompe immediatamente la trasmissione del pacchetto e invia un segnale di disturb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. L’adattore rimane in attesa. Quando riscontra l’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esima collisione consecutiva, stabilisce un valor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ra {0,1,2,…,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}. L’adattatore aspetta un tempo pari 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olte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12 bit e ritorna al Passo 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34C-935A-4EEF-A99A-80CDE7E68A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CSMA/CD di Eth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egnale di disturbo (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a finalità è di avvisare della collisione tutti gli altri adattatori che sono in fase trasmissiva; 48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it di temp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orrisponde a 0,1 microsec per Ethernet a 10 Mbps; per K=1023, il tempo di attesa è di circa 50 mse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34304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ttesa esponenzial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Obiettiv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l’adattatore prova a stimare quanti sono gli adattatori coinvol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 sono numerosi il tempo di attesa potrebbe essere lung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collisione: sceglie K tra {0,1}; il tempo di attesa è pari a K volte 512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la seconda collisione: sceglie K tra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dieci collisioni, sceglie K tra {0,1,2,3,4,…,1023}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96320" y="4959360"/>
            <a:ext cx="334620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date e interag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l’applet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l sito we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tamente raccomandat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41A-A82B-4CDA-B081-52AE41D3ABA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fficienza d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massimo che occorre al segnale per propagarsi fra una coppia di adattat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s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necessario per trasmettere un pacchetto della maggior dimensione possib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evince che quando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nde a 0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 crescere di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o meglio di ALOHA: decentralizzato, semplice, e poco costo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2114640" y="3208320"/>
                <a:ext cx="4208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z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sm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9EA-6A75-40A2-884C-5D5007E3E76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52280" y="954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Ethernet 802.3 : livelli di collegamento e fis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3560" y="1292400"/>
            <a:ext cx="777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mol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fferenti standard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lo MAC e formato del fram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velocità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mezzi trasmissivi del livello fisico: fibra, 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73520" y="4075200"/>
            <a:ext cx="1393560" cy="1527120"/>
          </a:xfrm>
          <a:custGeom>
            <a:avLst/>
            <a:gdLst/>
            <a:ahLst/>
            <a:rect l="l" t="t" r="r" b="b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482480" y="4202280"/>
            <a:ext cx="1468440" cy="1435320"/>
            <a:chOff x="1482480" y="4202280"/>
            <a:chExt cx="1468440" cy="1435320"/>
          </a:xfrm>
        </p:grpSpPr>
        <p:sp>
          <p:nvSpPr>
            <p:cNvPr id="924" name=""/>
            <p:cNvSpPr/>
            <p:nvPr/>
          </p:nvSpPr>
          <p:spPr>
            <a:xfrm>
              <a:off x="1582920" y="42292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82480" y="4202280"/>
              <a:ext cx="14684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82920" y="4519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82920" y="4795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77880" y="5077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85800" y="53262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85800" y="54072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76760" y="53895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23072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45120" y="4703760"/>
            <a:ext cx="41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12160" y="4079880"/>
            <a:ext cx="193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l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formato del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04240" y="479412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15040" y="515448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87320" y="478944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87560" y="4684680"/>
            <a:ext cx="1393920" cy="611280"/>
          </a:xfrm>
          <a:custGeom>
            <a:avLst/>
            <a:gdLst/>
            <a:ahLst/>
            <a:rect l="l" t="t" r="r" b="b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47040" y="478800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30120" y="51483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093800" y="514368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681520" y="4743360"/>
            <a:ext cx="3009240" cy="1563840"/>
            <a:chOff x="5681520" y="4743360"/>
            <a:chExt cx="3009240" cy="1563840"/>
          </a:xfrm>
        </p:grpSpPr>
        <p:sp>
          <p:nvSpPr>
            <p:cNvPr id="943" name=""/>
            <p:cNvSpPr/>
            <p:nvPr/>
          </p:nvSpPr>
          <p:spPr>
            <a:xfrm>
              <a:off x="5681520" y="4743360"/>
              <a:ext cx="2713320" cy="776520"/>
            </a:xfrm>
            <a:custGeom>
              <a:avLst/>
              <a:gdLst/>
              <a:ahLst/>
              <a:rect l="l" t="t" r="r" b="b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00920" y="554688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93240" y="593892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ivello fisico in fib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680280" y="4734000"/>
            <a:ext cx="3312720" cy="1871280"/>
            <a:chOff x="3680280" y="4734000"/>
            <a:chExt cx="3312720" cy="1871280"/>
          </a:xfrm>
        </p:grpSpPr>
        <p:sp>
          <p:nvSpPr>
            <p:cNvPr id="947" name=""/>
            <p:cNvSpPr/>
            <p:nvPr/>
          </p:nvSpPr>
          <p:spPr>
            <a:xfrm>
              <a:off x="4351320" y="4734000"/>
              <a:ext cx="2641680" cy="785880"/>
            </a:xfrm>
            <a:custGeom>
              <a:avLst/>
              <a:gdLst/>
              <a:ahLst/>
              <a:rect l="l" t="t" r="r" b="b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649400" y="556092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0280" y="5962680"/>
              <a:ext cx="24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ivello fisico in 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(doppino intreccia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E21-9EE6-4F55-A989-F9581B3156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512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difica Manche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5440" y="3481560"/>
            <a:ext cx="830088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ata in 10Ba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rante la ricezione di ciascun bit si verifica una transi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mette di sincronizzare gli orologi degli adattatori trasmittenti e riceven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bisogno di un clock centralizzato e globale tra i nodi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difica Manchester è un’operazione del livello fisic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1465200" y="1174680"/>
            <a:ext cx="587232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C82-E4BE-4FC0-993E-6CDFCCF805D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6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555-03EF-4552-8469-FE7D9C94A7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85280" y="977400"/>
            <a:ext cx="83156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hub (ripetitore) è un dispositivo “stupido” che opera sui singoli bi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’arrivo di un bit, l’hub lo riproduce incrementandone l‘energia e lo trasmette attraverso tutte le sue altre interfacc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implementa la rilevazione della portante né CSMA/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pete il bit entrante su tutte le interfacce uscenti anche se su qualcuna di queste c’è un segn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ette in broadcast, e quindi ciascun adattatore può sondare il canale per verificare se è libero e rilevare una collisione mentre trasmet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nisce aspetti di gestione di re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599000" y="4151160"/>
            <a:ext cx="3615120" cy="2347920"/>
            <a:chOff x="4599000" y="4151160"/>
            <a:chExt cx="3615120" cy="2347920"/>
          </a:xfrm>
        </p:grpSpPr>
        <p:sp>
          <p:nvSpPr>
            <p:cNvPr id="958" name=""/>
            <p:cNvSpPr/>
            <p:nvPr/>
          </p:nvSpPr>
          <p:spPr>
            <a:xfrm>
              <a:off x="5834520" y="5262120"/>
              <a:ext cx="308160" cy="7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9" name="" descr=""/>
            <p:cNvPicPr/>
            <p:nvPr/>
          </p:nvPicPr>
          <p:blipFill>
            <a:blip r:embed="rId1"/>
            <a:stretch/>
          </p:blipFill>
          <p:spPr>
            <a:xfrm>
              <a:off x="5828760" y="415116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"/>
            <a:stretch/>
          </p:blipFill>
          <p:spPr>
            <a:xfrm>
              <a:off x="5855040" y="61106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tretch/>
          </p:blipFill>
          <p:spPr>
            <a:xfrm>
              <a:off x="7054920" y="50432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4"/>
            <a:stretch/>
          </p:blipFill>
          <p:spPr>
            <a:xfrm>
              <a:off x="4599000" y="5052600"/>
              <a:ext cx="4442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5016960" y="5176800"/>
              <a:ext cx="13356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73920" y="5176800"/>
              <a:ext cx="13392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37560" y="45324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44760" y="59436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50520" y="5224320"/>
              <a:ext cx="73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77880" y="4714920"/>
              <a:ext cx="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219000" y="52243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6077880" y="5329440"/>
              <a:ext cx="936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04400" y="479880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doppino intrecci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602400" y="4983840"/>
              <a:ext cx="2160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58520" y="552636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44360" y="5349960"/>
              <a:ext cx="308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D74-F45D-4D25-BD18-E055D244083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9760" y="1171440"/>
            <a:ext cx="81388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Dispositivo del livello di link: più intelligente di un hub, svolge un ruolo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at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Filtra e inoltra i pacchetti Etherne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samina l’indirizzo di destinazione e lo invia all’interfaccia corrispondente alla sua destinazion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un pacchetto è stato inoltrato nel segmento, usa CSMA/CD per accedere al segmen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Traspar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host sono inconsapevoli della presenza di switch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lug-and-play,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non hanno bisogno di essere configur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456-5E6A-4679-89C1-CB2E1A34300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26880" y="309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3333cc"/>
                </a:solidFill>
                <a:uFillTx/>
                <a:latin typeface="Comic Sans MS"/>
              </a:rPr>
              <a:t>Switch:  consente più trasmissioni simultane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" y="1371600"/>
            <a:ext cx="45036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host hanno collegamenti dedicati e diretti con lo 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switch bufferizzano i pacchet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protocollo Ethernet è usato su ciascun collegamento in entrata, ma non si verificano collisioni; full du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switching: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da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ad A’ e da B a B’ simultaneamente, senza collis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 possibile con gli hub “stupid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998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931-C632-45DB-AA72-4D835CE4F9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4200" y="1358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protocolli incapsulano i datagrammi del livello di rete all’interno di un frame a livello di lin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tocollo MAC controlla l’accesso al mezz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identificare origine e destinatario vengono utilizzati indirizzi “MAC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versi rispetto agli indirizzi I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segna affidabi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avviene, lo abbiamo già imparato nel Capitolo 3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considerata non necessaria nei collegamenti che presentano un basso numero di errori sui bit (fibra ottica, cavo coassiale e doppino intrecciat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spesso utilizzata nei collegamenti soggetti a elevati tassi di errori (es.: collegamenti wirel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D1-D5BA-4C66-85F1-B1F424473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533520" y="309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abella di commu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1440" y="1359000"/>
            <a:ext cx="513720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e fa lo switch a sapere che A’ è raggiungibile attraverso l’interfaccia 4 e B’ attraverso l’interfaccia 5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ogni switch ha un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bella di commuta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witch 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ciascuna vo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ndirizzo MAC del nodo, interfaccia che conduce al nodo, time st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omiglia a una tabella d’instradamen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si creano e si mantengono le voci di una tabella di commutazio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in un protocollo di instrada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29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5AA-D150-4D35-BE14-834945B1E14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 u="sng">
                <a:solidFill>
                  <a:srgbClr val="3333cc"/>
                </a:solidFill>
                <a:uFillTx/>
                <a:latin typeface="Comic Sans MS"/>
              </a:rPr>
              <a:t>Switch: autoapprendimento</a:t>
            </a:r>
            <a:endParaRPr b="0" lang="en-US" sz="3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41280" y="1390320"/>
            <a:ext cx="4673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switch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ppren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quali nodi possono essere raggiunti attraverso determinate interfac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riceve un pacchetto, lo switch “impara”  l’indirizzo del mit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istra la coppia mittente/indirizzo nella sua tabella di commu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60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070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075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587240" y="4984920"/>
            <a:ext cx="3005280" cy="1443960"/>
            <a:chOff x="1587240" y="4984920"/>
            <a:chExt cx="3005280" cy="1443960"/>
          </a:xfrm>
        </p:grpSpPr>
        <p:sp>
          <p:nvSpPr>
            <p:cNvPr id="1080" name=""/>
            <p:cNvSpPr/>
            <p:nvPr/>
          </p:nvSpPr>
          <p:spPr>
            <a:xfrm>
              <a:off x="1587240" y="498492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85160" y="503244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20600" y="4984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90600" y="498924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91920" y="537048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5218200" y="5342040"/>
            <a:ext cx="27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030760" y="5418000"/>
            <a:ext cx="2458080" cy="376200"/>
            <a:chOff x="2030760" y="5418000"/>
            <a:chExt cx="2458080" cy="376200"/>
          </a:xfrm>
        </p:grpSpPr>
        <p:sp>
          <p:nvSpPr>
            <p:cNvPr id="1087" name=""/>
            <p:cNvSpPr/>
            <p:nvPr/>
          </p:nvSpPr>
          <p:spPr>
            <a:xfrm>
              <a:off x="2030760" y="54259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1840" y="542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55040" y="5418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C4E-4248-4913-81BB-6C702752362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gio e inolt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uno switch ricev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Registra il collegamento associato con l’host mit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Indicizza la tabella utilizzando gli indirizzi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op the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ward the frame on interface ind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68080" y="4776840"/>
            <a:ext cx="525096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Lo inoltra a tutti tranne all’interfac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dalla quale è arrivato il pacch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2503440" y="496584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028-C38D-4E3B-B116-2357A1340AC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39480" y="696600"/>
            <a:ext cx="550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prendimento, inoltro: un esemp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6523200" y="3951360"/>
          <a:ext cx="61092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3200" y="3951360"/>
                    <a:ext cx="610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115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125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130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1746000" y="4826160"/>
            <a:ext cx="3005280" cy="1443960"/>
            <a:chOff x="1746000" y="4826160"/>
            <a:chExt cx="3005280" cy="1443960"/>
          </a:xfrm>
        </p:grpSpPr>
        <p:sp>
          <p:nvSpPr>
            <p:cNvPr id="1135" name=""/>
            <p:cNvSpPr/>
            <p:nvPr/>
          </p:nvSpPr>
          <p:spPr>
            <a:xfrm>
              <a:off x="1746000" y="482616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43920" y="487368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9360" y="48261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49360" y="48304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50680" y="521172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307840" y="51991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2221200" y="5259240"/>
            <a:ext cx="2458080" cy="376200"/>
            <a:chOff x="2221200" y="5259240"/>
            <a:chExt cx="2458080" cy="376200"/>
          </a:xfrm>
        </p:grpSpPr>
        <p:sp>
          <p:nvSpPr>
            <p:cNvPr id="1142" name=""/>
            <p:cNvSpPr/>
            <p:nvPr/>
          </p:nvSpPr>
          <p:spPr>
            <a:xfrm>
              <a:off x="2221200" y="5267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92280" y="526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45480" y="525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826240" y="2881440"/>
            <a:ext cx="1401120" cy="368280"/>
            <a:chOff x="5826240" y="2881440"/>
            <a:chExt cx="1401120" cy="368280"/>
          </a:xfrm>
        </p:grpSpPr>
        <p:sp>
          <p:nvSpPr>
            <p:cNvPr id="1146" name=""/>
            <p:cNvSpPr/>
            <p:nvPr/>
          </p:nvSpPr>
          <p:spPr>
            <a:xfrm>
              <a:off x="5832360" y="29257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26240" y="2881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94080" y="2914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9920" y="2922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826240" y="2879640"/>
            <a:ext cx="1401120" cy="368280"/>
            <a:chOff x="5826240" y="2879640"/>
            <a:chExt cx="1401120" cy="368280"/>
          </a:xfrm>
        </p:grpSpPr>
        <p:sp>
          <p:nvSpPr>
            <p:cNvPr id="1151" name=""/>
            <p:cNvSpPr/>
            <p:nvPr/>
          </p:nvSpPr>
          <p:spPr>
            <a:xfrm>
              <a:off x="5832360" y="29239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2624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9408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7992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56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61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823360" y="2879640"/>
            <a:ext cx="1401480" cy="368280"/>
            <a:chOff x="5823360" y="2879640"/>
            <a:chExt cx="1401480" cy="368280"/>
          </a:xfrm>
        </p:grpSpPr>
        <p:sp>
          <p:nvSpPr>
            <p:cNvPr id="1166" name=""/>
            <p:cNvSpPr/>
            <p:nvPr/>
          </p:nvSpPr>
          <p:spPr>
            <a:xfrm>
              <a:off x="5829480" y="29239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82336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9120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704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del frame igno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156840" y="2892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58160" y="3981600"/>
            <a:ext cx="1401480" cy="368280"/>
            <a:chOff x="6158160" y="3981600"/>
            <a:chExt cx="1401480" cy="368280"/>
          </a:xfrm>
        </p:grpSpPr>
        <p:sp>
          <p:nvSpPr>
            <p:cNvPr id="1173" name=""/>
            <p:cNvSpPr/>
            <p:nvPr/>
          </p:nvSpPr>
          <p:spPr>
            <a:xfrm>
              <a:off x="6164280" y="40258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58160" y="39816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59480" y="40147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11840" y="40226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A, location no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202840" y="5545080"/>
            <a:ext cx="2457360" cy="376200"/>
            <a:chOff x="2202840" y="5545080"/>
            <a:chExt cx="2457360" cy="376200"/>
          </a:xfrm>
        </p:grpSpPr>
        <p:sp>
          <p:nvSpPr>
            <p:cNvPr id="1179" name=""/>
            <p:cNvSpPr/>
            <p:nvPr/>
          </p:nvSpPr>
          <p:spPr>
            <a:xfrm>
              <a:off x="2202840" y="5553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391200" y="555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26400" y="5545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71480" y="4267080"/>
            <a:ext cx="40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selective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803-5A53-4355-8C9D-0D15F14412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546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egare gli swi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8400" y="1320840"/>
            <a:ext cx="78822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switch possono essere interconn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192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inviare da A a G, come fa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sapere che deve inoltrare il frame attraver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apprende! (funziona esattamente come nel caso di unsingolo switch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2379600" y="1984320"/>
            <a:ext cx="4890960" cy="2043000"/>
            <a:chOff x="2379600" y="1984320"/>
            <a:chExt cx="4890960" cy="2043000"/>
          </a:xfrm>
        </p:grpSpPr>
        <p:pic>
          <p:nvPicPr>
            <p:cNvPr id="1201" name="" descr=""/>
            <p:cNvPicPr/>
            <p:nvPr/>
          </p:nvPicPr>
          <p:blipFill>
            <a:blip r:embed="rId4"/>
            <a:stretch/>
          </p:blipFill>
          <p:spPr>
            <a:xfrm>
              <a:off x="4351320" y="33591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5"/>
            <a:stretch/>
          </p:blipFill>
          <p:spPr>
            <a:xfrm>
              <a:off x="5164200" y="33130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6"/>
            <a:stretch/>
          </p:blipFill>
          <p:spPr>
            <a:xfrm>
              <a:off x="3246480" y="320688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7"/>
            <a:stretch/>
          </p:blipFill>
          <p:spPr>
            <a:xfrm>
              <a:off x="3684600" y="36846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8"/>
            <a:stretch/>
          </p:blipFill>
          <p:spPr>
            <a:xfrm>
              <a:off x="6624720" y="31748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9"/>
            <a:stretch/>
          </p:blipFill>
          <p:spPr>
            <a:xfrm>
              <a:off x="5870520" y="35449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 flipH="1">
              <a:off x="3635280" y="306864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949200" y="308772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54480" y="303048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5532120" y="310680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035760" y="307800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379600" y="235584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00480" y="232236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4622760" y="227304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3870360" y="2147760"/>
              <a:ext cx="720720" cy="279360"/>
              <a:chOff x="3870360" y="2147760"/>
              <a:chExt cx="720720" cy="279360"/>
            </a:xfrm>
          </p:grpSpPr>
          <p:sp>
            <p:nvSpPr>
              <p:cNvPr id="1216" name=""/>
              <p:cNvSpPr/>
              <p:nvPr/>
            </p:nvSpPr>
            <p:spPr>
              <a:xfrm>
                <a:off x="3870360" y="22874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42000" y="21556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078440" y="21477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668920" y="2928960"/>
              <a:ext cx="720720" cy="279360"/>
              <a:chOff x="5668920" y="2928960"/>
              <a:chExt cx="720720" cy="279360"/>
            </a:xfrm>
          </p:grpSpPr>
          <p:sp>
            <p:nvSpPr>
              <p:cNvPr id="1220" name=""/>
              <p:cNvSpPr/>
              <p:nvPr/>
            </p:nvSpPr>
            <p:spPr>
              <a:xfrm>
                <a:off x="5668920" y="30686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740560" y="29368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77000" y="29289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821040" y="2887560"/>
              <a:ext cx="720720" cy="279360"/>
              <a:chOff x="3821040" y="2887560"/>
              <a:chExt cx="720720" cy="279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3821040" y="30272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92680" y="28954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029120" y="28875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6411960" y="313200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21600" y="3222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04000" y="3659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78480" y="3057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35480" y="27687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62720" y="198432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37560" y="25700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5640" y="35416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12080" y="3179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00480" y="35956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869-8D60-469B-86EB-434DFE7EDBE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95360" y="0"/>
            <a:ext cx="812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Esempio di apprendimento multi-swi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0800" y="1139760"/>
            <a:ext cx="818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upponiamo che C invii un frame a I, e che I risponda a 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llustrate le tabelle di commutazione e l’inoltro dei pacchetti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247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269" name="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273" name="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277" name="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5DE-B722-4E5C-A46B-69DC21E3214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sempio di rete di un’istituzio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4062240" y="498312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6326280" y="49942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57240" y="49798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4125960" y="3052800"/>
            <a:ext cx="457200" cy="331920"/>
            <a:chOff x="4125960" y="3052800"/>
            <a:chExt cx="457200" cy="331920"/>
          </a:xfrm>
        </p:grpSpPr>
        <p:sp>
          <p:nvSpPr>
            <p:cNvPr id="1316" name=""/>
            <p:cNvSpPr/>
            <p:nvPr/>
          </p:nvSpPr>
          <p:spPr>
            <a:xfrm>
              <a:off x="4583160" y="305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25960" y="3281400"/>
              <a:ext cx="423720" cy="10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4354200" y="3129120"/>
              <a:ext cx="173160" cy="144360"/>
              <a:chOff x="4354200" y="3129120"/>
              <a:chExt cx="173160" cy="144360"/>
            </a:xfrm>
          </p:grpSpPr>
          <p:sp>
            <p:nvSpPr>
              <p:cNvPr id="1319" name=""/>
              <p:cNvSpPr/>
              <p:nvPr/>
            </p:nvSpPr>
            <p:spPr>
              <a:xfrm>
                <a:off x="4383360" y="3129120"/>
                <a:ext cx="11520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4354200" y="3129120"/>
                <a:ext cx="17316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68440" y="47214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65880" y="47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18400" y="45655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01960" y="3174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329" name="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338" name="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349" name="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356" name="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3" name="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9400" y="20415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a re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723400" y="26082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94400" y="3516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ttoret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427720" y="183528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30520" y="25052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9AF-D828-4377-AB9B-89FB3BFB58F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4288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 e router a confro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42880" y="1138320"/>
            <a:ext cx="7981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ntrambi sono dispositivi store-and-forwar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outer: dispositivi a livello di rete (esaminano le intestazioni del livello di re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witch: dispositivi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 router mantengono tabelle d’inoltro e implementano algoritmi d’instrada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mantengono tabelle di commutazione e implementano il filtraggio e algoritmi di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685880" y="4173480"/>
            <a:ext cx="5456160" cy="21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B5F-6D31-4CE5-A318-D10C6243000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7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B69-2138-4084-BF1A-2AE48FA5E2A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mittente, un destinatario, un collegamento: estremamente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c’è protocollo di accesso al mezzo (MA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 occorre indirizzamento MAC espli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llegamento potrebbe essere una linea telefonica serale commutata, un collegamento SONET/SDH, una connessine X.25 o un circuito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punto-punto DLC più diffus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oint-to-point protoc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DLC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high-level data link contr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636480" y="222120"/>
            <a:ext cx="828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unto-pu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260-57E7-4F77-9EC2-3EBDD97AD42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9600" y="228600"/>
            <a:ext cx="8618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collegamento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51000"/>
            <a:ext cx="8256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di flusso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vita che il nodo trasmittente saturi quello riceven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errori sono causati dall’attenuazione del segnale e da rumore elettromagnetic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individua la presenza di erro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ossibile grazie all’inserimento, da parte del nodo trasmittente, di un bit di controllo di errore all’interno del fra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determina anche il punto in cui si è verificato l’errore, e lo correg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a trasmissione full-duplex gli estremi di un collegamento possono trasmettere contemporaneamente: non in quella half-duple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6B4-1221-47D1-8D2D-FE528AF64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di IETF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er il progetto PPP [RFC 1547]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 dei pacchetti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tocollo PP del mittente incapsula un pacchetto a livello di rete all’interno del un pacchetto PPP a livello di link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rasparenza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PPP non deve porre alcuna restrizione ai dati che appaiono nel pacchetto a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ma non la correzi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Disponibilità dell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deve rilevare la presenza di eventuali guasti a livello di link e segnalare l’errore al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egoziazione degli indirizzi di re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 deve fornire un meccanismo ai livelli di rete comunicanti per ottenere o configurare gli indirizzi di re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2D2-6985-4DAB-9A2D-161B6D72B44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12480" y="166320"/>
            <a:ext cx="88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che PPP </a:t>
            </a:r>
            <a:r>
              <a:rPr b="1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non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ve implementa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rezione degli err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ollo di flus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quenza (non deve necessariamente trasferire i pacchetti al ricevente mantenendo lo stesso ordin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llegamento multipunto (es., polling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1297080" y="4646520"/>
            <a:ext cx="64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, controllo di flus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-ordinamento dei pacch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no delegati ai livelli superiori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7E8-40BE-47F7-B11F-59B6C776454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461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ogni pacchetto inizia e termina con un byte con valore 0111111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dirizz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 (11111111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ontr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; ulteriori valori potrebbero essere stabiliti in futu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rotoc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dica al PPP del ricevente qual è il protocollo del livello superiore cui appartengono i dati incapsulat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955800" y="500868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508-7ADB-4DE0-8D28-71B86024EAD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formazioni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capsula il pacchetto trasmesso da un protocollo del livello superiore (come IP) sul collegamento PP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hecksum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utilizzato per rilevare gli errori nei bit contenuti in un pacchetto; utilizza un codice a ridondanza ciclica HDLC a due o a quattro by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779400" y="455940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49A-AF01-4D71-A3C8-CE40EEFB9DF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Riempimento dei byte </a:t>
            </a:r>
            <a:br>
              <a:rPr sz="3400"/>
            </a:b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(</a:t>
            </a:r>
            <a:r>
              <a:rPr b="0" i="1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33520" y="14569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quisito di trasparenz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nel campo informazioni deve essere possibile inserire una stringa &lt;01111110&gt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 compare &lt;01111110&gt; come fa il ricevente a rilevare in modo corretto la fine del frame PP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Mitten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ggiunge (“stuff”) un byte di control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&lt;01111110&gt; prima di ogni byte di dati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Destinatar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byte 01111110: scarta il primo e continua la ricezione dei da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ngolo 01111110: valore di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052-57B7-477B-B83F-F7C196817B5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415080" y="192420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lag n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 invi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lore del 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iù byte aggi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 flusso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CAF-CF9E-4782-801F-A401C3A5BAA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Protocollo di controllo del collegamento e protocolli di rete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99600" y="1321920"/>
            <a:ext cx="46278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di avviare lo scambio di dati, i due peer devono configurare il collegame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nfigurazione del collegamento PP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massima dimensione del pacchetto, autenticazion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cambio dei pacchetti di controllo propri del livello di re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IP: viene utilizzato il protocollo di controllo IP (IPCP) e i dati IPCP sono inseriti in un pacchetto PPP (il cui campo protocollo contiene 8021) in modo analogo a quello in cui i dati LCP sono inseriti in un pacchetto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5013360" y="2190600"/>
            <a:ext cx="395460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2B5-9AB0-46E4-B5F8-24315624560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8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9D7-FFB2-4B31-A63E-BFC407AFC5F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Virtualizzazione delle ret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rtualizzazione delle risorse: una potente astrazione nell’ingegneria dei siste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nell’informatica: memoria virtuale, dispositivi virtu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chine virtuali: es.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stema operativo IBM VM tra gli anni ‘60 e ’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llegamento va considerato in modo astratto, come un canale piuttosto che un ca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07D-8922-47B5-8F0F-0D66245F6DA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9120" y="1446120"/>
            <a:ext cx="467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74: tante reti non collegate tra l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su c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a pacchetto satellitari (Alo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62600" y="1446120"/>
            <a:ext cx="4181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differiscono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nzioni di indirizz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ei pac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 degli err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a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0" name="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2" name="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1417" name="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1422" name="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1428" name="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1432" name="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5" name="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1436" name="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1442" name="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1446" name="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9" name="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1450" name="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1456" name="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3" name="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1468" name="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0" name="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1474" name="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6" name="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8" name="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547600" y="5713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251280" y="613080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ggio 1974, pp. 637-6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A46-AC1B-43DF-AB33-CF08D2E376E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69720" y="228600"/>
            <a:ext cx="841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Dove è implementato il livello di collegamen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utti gli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realizzato in un adattatore (NIC,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twork interface ca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eda Ethernet, PCMCI,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 il livello di collegamento e f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una combinazione di hardware, software 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29360" y="261468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8640" y="455292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78640" y="396540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8320" y="4573440"/>
            <a:ext cx="103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miss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30840" y="3484440"/>
            <a:ext cx="200160" cy="460440"/>
          </a:xfrm>
          <a:custGeom>
            <a:avLst/>
            <a:gdLst/>
            <a:ahLst/>
            <a:rect l="l" t="t" r="r" b="b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6200" y="3657600"/>
            <a:ext cx="13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891480" y="366516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4960" y="296712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3960" y="29685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687720" y="3487680"/>
            <a:ext cx="1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561440" y="3489480"/>
            <a:ext cx="1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10360" y="378612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, P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91120" y="427356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7686360" y="3661920"/>
            <a:ext cx="3826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4680" y="535608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att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 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7504200" y="46800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88960" y="22874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sche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51480" y="3854520"/>
            <a:ext cx="1122480" cy="10825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40000" y="2755800"/>
            <a:ext cx="1517760" cy="2052720"/>
            <a:chOff x="5040000" y="2755800"/>
            <a:chExt cx="1517760" cy="2052720"/>
          </a:xfrm>
        </p:grpSpPr>
        <p:sp>
          <p:nvSpPr>
            <p:cNvPr id="313" name=""/>
            <p:cNvSpPr/>
            <p:nvPr/>
          </p:nvSpPr>
          <p:spPr>
            <a:xfrm>
              <a:off x="5938560" y="3983040"/>
              <a:ext cx="619200" cy="825480"/>
            </a:xfrm>
            <a:custGeom>
              <a:avLst/>
              <a:gdLst/>
              <a:ahLst/>
              <a:rect l="l" t="t" r="r" b="b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3880" y="2805120"/>
              <a:ext cx="436680" cy="70308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3840" y="2817720"/>
              <a:ext cx="776520" cy="83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000" y="2755800"/>
              <a:ext cx="1012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63840" y="299412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63840" y="316080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60960" y="333072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65640" y="3502080"/>
              <a:ext cx="76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97240" y="3511440"/>
              <a:ext cx="8762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5640" y="35305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38560" y="3521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63840" y="3833640"/>
              <a:ext cx="776520" cy="8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3240" y="3722760"/>
              <a:ext cx="101268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s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3840" y="4010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63840" y="41781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60960" y="4319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57720" y="4502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35400" y="3794040"/>
              <a:ext cx="82224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3840" y="41497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0360" y="41497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62400" y="2822400"/>
              <a:ext cx="77796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57720" y="4319640"/>
              <a:ext cx="77616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7467480" y="185436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185436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60840" y="51735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311720" y="5452920"/>
            <a:ext cx="1143000" cy="11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AC1-59F7-40A4-B0F9-E7DBDA2BC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22960" y="456732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040" y="4638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7" name=""/>
          <p:cNvGraphicFramePr/>
          <p:nvPr/>
        </p:nvGraphicFramePr>
        <p:xfrm>
          <a:off x="3386160" y="565956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65956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9" name="" descr=""/>
          <p:cNvPicPr/>
          <p:nvPr/>
        </p:nvPicPr>
        <p:blipFill>
          <a:blip r:embed="rId3"/>
          <a:stretch/>
        </p:blipFill>
        <p:spPr>
          <a:xfrm>
            <a:off x="2712960" y="58356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 flipV="1">
            <a:off x="1719360" y="50796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990800" y="516420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3116160" y="51228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"/>
          <p:cNvGrpSpPr/>
          <p:nvPr/>
        </p:nvGrpSpPr>
        <p:grpSpPr>
          <a:xfrm>
            <a:off x="6473880" y="4865760"/>
            <a:ext cx="268200" cy="487080"/>
            <a:chOff x="6473880" y="4865760"/>
            <a:chExt cx="268200" cy="487080"/>
          </a:xfrm>
        </p:grpSpPr>
        <p:pic>
          <p:nvPicPr>
            <p:cNvPr id="1494" name="" descr=""/>
            <p:cNvPicPr/>
            <p:nvPr/>
          </p:nvPicPr>
          <p:blipFill>
            <a:blip r:embed="rId4"/>
            <a:stretch/>
          </p:blipFill>
          <p:spPr>
            <a:xfrm>
              <a:off x="6481800" y="48657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6473880" y="51084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2975040" y="560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614760" y="50958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225960" y="4883040"/>
            <a:ext cx="501480" cy="234720"/>
            <a:chOff x="3225960" y="4883040"/>
            <a:chExt cx="501480" cy="234720"/>
          </a:xfrm>
        </p:grpSpPr>
        <p:sp>
          <p:nvSpPr>
            <p:cNvPr id="1499" name=""/>
            <p:cNvSpPr/>
            <p:nvPr/>
          </p:nvSpPr>
          <p:spPr>
            <a:xfrm>
              <a:off x="3229920" y="49878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2992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744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29920" y="49766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25960" y="4883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3345480" y="4916160"/>
              <a:ext cx="246240" cy="88920"/>
              <a:chOff x="3345480" y="4916160"/>
              <a:chExt cx="246240" cy="88920"/>
            </a:xfrm>
          </p:grpSpPr>
          <p:sp>
            <p:nvSpPr>
              <p:cNvPr id="1505" name=""/>
              <p:cNvSpPr/>
              <p:nvPr/>
            </p:nvSpPr>
            <p:spPr>
              <a:xfrm flipV="1">
                <a:off x="3345480" y="4916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514320" y="500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426480" y="4918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3345480" y="4915080"/>
              <a:ext cx="246240" cy="88920"/>
              <a:chOff x="3345480" y="4915080"/>
              <a:chExt cx="246240" cy="88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3345480" y="5002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514320" y="491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426480" y="4915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2616120" y="5372280"/>
            <a:ext cx="500040" cy="232920"/>
            <a:chOff x="2616120" y="5372280"/>
            <a:chExt cx="500040" cy="232920"/>
          </a:xfrm>
        </p:grpSpPr>
        <p:sp>
          <p:nvSpPr>
            <p:cNvPr id="1513" name=""/>
            <p:cNvSpPr/>
            <p:nvPr/>
          </p:nvSpPr>
          <p:spPr>
            <a:xfrm>
              <a:off x="2620080" y="5476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2008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1616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20080" y="5465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16120" y="5372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2735280" y="5405040"/>
              <a:ext cx="245520" cy="88200"/>
              <a:chOff x="2735280" y="5405040"/>
              <a:chExt cx="245520" cy="88200"/>
            </a:xfrm>
          </p:grpSpPr>
          <p:sp>
            <p:nvSpPr>
              <p:cNvPr id="1519" name=""/>
              <p:cNvSpPr/>
              <p:nvPr/>
            </p:nvSpPr>
            <p:spPr>
              <a:xfrm flipV="1">
                <a:off x="2735280" y="5405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903760" y="5493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15920" y="5407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2735280" y="5404320"/>
              <a:ext cx="245520" cy="88200"/>
              <a:chOff x="2735280" y="5404320"/>
              <a:chExt cx="245520" cy="88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2735280" y="5490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03760" y="5404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2815920" y="5404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1673280" y="4995720"/>
            <a:ext cx="501480" cy="233280"/>
            <a:chOff x="1673280" y="4995720"/>
            <a:chExt cx="501480" cy="233280"/>
          </a:xfrm>
        </p:grpSpPr>
        <p:sp>
          <p:nvSpPr>
            <p:cNvPr id="1527" name=""/>
            <p:cNvSpPr/>
            <p:nvPr/>
          </p:nvSpPr>
          <p:spPr>
            <a:xfrm>
              <a:off x="1677240" y="509976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724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7476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77240" y="50889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3280" y="4995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792800" y="5028480"/>
              <a:ext cx="246240" cy="88560"/>
              <a:chOff x="1792800" y="5028480"/>
              <a:chExt cx="246240" cy="8856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1792800" y="502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61640" y="5117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73800" y="50306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792800" y="5027400"/>
              <a:ext cx="246240" cy="88560"/>
              <a:chOff x="1792800" y="5027400"/>
              <a:chExt cx="246240" cy="88560"/>
            </a:xfrm>
          </p:grpSpPr>
          <p:sp>
            <p:nvSpPr>
              <p:cNvPr id="1537" name=""/>
              <p:cNvSpPr/>
              <p:nvPr/>
            </p:nvSpPr>
            <p:spPr>
              <a:xfrm>
                <a:off x="1792800" y="51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61640" y="502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1873800" y="5027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0" name=""/>
          <p:cNvSpPr/>
          <p:nvPr/>
        </p:nvSpPr>
        <p:spPr>
          <a:xfrm flipV="1">
            <a:off x="2176560" y="501984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1465200" y="51339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5"/>
          <a:stretch/>
        </p:blipFill>
        <p:spPr>
          <a:xfrm>
            <a:off x="2179800" y="57214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flipH="1">
            <a:off x="2568600" y="56037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49920" y="4903920"/>
            <a:ext cx="268200" cy="486720"/>
            <a:chOff x="5749920" y="4903920"/>
            <a:chExt cx="268200" cy="486720"/>
          </a:xfrm>
        </p:grpSpPr>
        <p:pic>
          <p:nvPicPr>
            <p:cNvPr id="1545" name="" descr=""/>
            <p:cNvPicPr/>
            <p:nvPr/>
          </p:nvPicPr>
          <p:blipFill>
            <a:blip r:embed="rId6"/>
            <a:stretch/>
          </p:blipFill>
          <p:spPr>
            <a:xfrm>
              <a:off x="5757840" y="4903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5749920" y="5146560"/>
              <a:ext cx="26820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7" name="" descr=""/>
          <p:cNvPicPr/>
          <p:nvPr/>
        </p:nvPicPr>
        <p:blipFill>
          <a:blip r:embed="rId7"/>
          <a:stretch/>
        </p:blipFill>
        <p:spPr>
          <a:xfrm>
            <a:off x="5460840" y="54626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flipH="1">
            <a:off x="5820840" y="5376960"/>
            <a:ext cx="6372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6748200" y="5084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6181560" y="5373720"/>
            <a:ext cx="268200" cy="487080"/>
            <a:chOff x="6181560" y="5373720"/>
            <a:chExt cx="268200" cy="487080"/>
          </a:xfrm>
        </p:grpSpPr>
        <p:pic>
          <p:nvPicPr>
            <p:cNvPr id="1551" name="" descr=""/>
            <p:cNvPicPr/>
            <p:nvPr/>
          </p:nvPicPr>
          <p:blipFill>
            <a:blip r:embed="rId8"/>
            <a:stretch/>
          </p:blipFill>
          <p:spPr>
            <a:xfrm>
              <a:off x="6189480" y="53737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2" name=""/>
            <p:cNvSpPr/>
            <p:nvPr/>
          </p:nvSpPr>
          <p:spPr>
            <a:xfrm>
              <a:off x="6181560" y="56163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3" name=""/>
          <p:cNvGraphicFramePr/>
          <p:nvPr/>
        </p:nvGraphicFramePr>
        <p:xfrm>
          <a:off x="6523200" y="579924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79924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5" name=""/>
          <p:cNvSpPr/>
          <p:nvPr/>
        </p:nvSpPr>
        <p:spPr>
          <a:xfrm>
            <a:off x="6316560" y="5859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156040" y="6329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47600" y="6316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6743880" y="47768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1104840" y="49417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4178160" y="4159080"/>
            <a:ext cx="317520" cy="698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727440" y="4657320"/>
            <a:ext cx="44460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07080" y="46083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95680" y="4159080"/>
            <a:ext cx="317520" cy="698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11400" y="48751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31640" y="1866960"/>
            <a:ext cx="7035840" cy="3022560"/>
            <a:chOff x="431640" y="1866960"/>
            <a:chExt cx="7035840" cy="3022560"/>
          </a:xfrm>
        </p:grpSpPr>
        <p:grpSp>
          <p:nvGrpSpPr>
            <p:cNvPr id="1566" name=""/>
            <p:cNvGrpSpPr/>
            <p:nvPr/>
          </p:nvGrpSpPr>
          <p:grpSpPr>
            <a:xfrm>
              <a:off x="1054080" y="3772080"/>
              <a:ext cx="6413400" cy="1117440"/>
              <a:chOff x="1054080" y="3772080"/>
              <a:chExt cx="6413400" cy="1117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1054080" y="3848400"/>
                <a:ext cx="641340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180800" y="37972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819480" y="37720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152600" y="3835440"/>
                <a:ext cx="6854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431640" y="1866960"/>
              <a:ext cx="3962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flipV="1">
              <a:off x="2590920" y="3327120"/>
              <a:ext cx="799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4280040" y="1181160"/>
            <a:ext cx="3962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atewa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chiude i pacchetti della rete globale in pacchetti con il formato della rete locale o li estrae da ques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 instrada verso il gateway succes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655880" y="33321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33360" y="1301760"/>
            <a:ext cx="36590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dirizzamento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interconnessione delle reti fa sì che tutto appaia come una singola entità uniforme nonostante la sottostante eterogeneità delle reti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e delle r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CC0-440C-40E5-8136-1A72B956BB7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533520" y="228600"/>
            <a:ext cx="814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’architettura di Cerf &amp; Ka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7840" y="1276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 cosa è virtualizz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livelli di indirizzamento: rete globale e ret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nuovo livello (IP) rende tutto omoge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nologia sottostante della rete lo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m telefonico a 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gi: ATM, 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2B0-21BC-426E-8F3A-843042B7D9C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LS utilizzano la commutazione a pacchetto e sono reti a circuito virtu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no propri formati di pacchetto e propri metodi d’inv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l punto di vista di Internet sono al pari di un qualunque collegamento che interconnette dispositivi I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una rete telefonica e una Ethernet commut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SL: vedremo come queste reti forniscono connessione ai dispositivi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DFD-5AD8-4D3E-A3BB-D3E8C7E85C0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rasferimento asincron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: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standard per ATM cominciarono a essere sviluppati alla metà degli anni ’80 dall’ATM Forum e dall’ITU; in pratica fu utilizzata principalmente all’interno di reti telefoniche e IP servendo, per esempio, come tecnologia dei collegamenti che connettono router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biettiv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progettare reti in grado di trasportare file audio e video in tempo reale, oltre a testo, e-mail e file di immagi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pondenza ai requisiti di tempo/QoS per voce e video (rispetto al modello best-effort di Intern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elefonia di ultima gene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mutazione di pacchetto usando circuiti virtu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8C1-D0C9-41A7-8A50-75D6F5E5965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39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rchitettura di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74760" y="3754440"/>
            <a:ext cx="79610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AL (ATM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daptation layer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presente solo nei dispositivi alla periferia della rete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gmentazione e riassemblaggio dei pacchet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mile al livello di trasporto in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ATM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“livello di ret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finisce la struttura della cella ATM e il significato dei suoi ca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fi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365120" y="1227240"/>
            <a:ext cx="5999040" cy="2479680"/>
            <a:chOff x="1365120" y="1227240"/>
            <a:chExt cx="5999040" cy="2479680"/>
          </a:xfrm>
        </p:grpSpPr>
        <p:grpSp>
          <p:nvGrpSpPr>
            <p:cNvPr id="1585" name=""/>
            <p:cNvGrpSpPr/>
            <p:nvPr/>
          </p:nvGrpSpPr>
          <p:grpSpPr>
            <a:xfrm>
              <a:off x="1407960" y="1235160"/>
              <a:ext cx="1187280" cy="2057400"/>
              <a:chOff x="1407960" y="1235160"/>
              <a:chExt cx="1187280" cy="2057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1407960" y="1235160"/>
                <a:ext cx="1187280" cy="2057400"/>
                <a:chOff x="1407960" y="1235160"/>
                <a:chExt cx="1187280" cy="205740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1407960" y="123516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1417320" y="259560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1409400" y="191304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522800" y="2754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84440" y="2084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690920" y="140364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6176880" y="1227240"/>
              <a:ext cx="1187280" cy="2057400"/>
              <a:chOff x="6176880" y="1227240"/>
              <a:chExt cx="1187280" cy="20574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6176880" y="1227240"/>
                <a:ext cx="1187280" cy="2057400"/>
                <a:chOff x="6176880" y="1227240"/>
                <a:chExt cx="1187280" cy="20574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176880" y="122724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6186240" y="258768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6178320" y="19051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" name=""/>
              <p:cNvSpPr/>
              <p:nvPr/>
            </p:nvSpPr>
            <p:spPr>
              <a:xfrm>
                <a:off x="6291720" y="27464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453360" y="20764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459840" y="13957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3002040" y="1963800"/>
              <a:ext cx="1187280" cy="1301760"/>
              <a:chOff x="3002040" y="1963800"/>
              <a:chExt cx="1187280" cy="1301760"/>
            </a:xfrm>
          </p:grpSpPr>
          <p:sp>
            <p:nvSpPr>
              <p:cNvPr id="1602" name=""/>
              <p:cNvSpPr/>
              <p:nvPr/>
            </p:nvSpPr>
            <p:spPr>
              <a:xfrm>
                <a:off x="3002040" y="196380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3011400" y="256860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116160" y="2727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77800" y="2057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4594320" y="1967040"/>
              <a:ext cx="1187280" cy="1301760"/>
              <a:chOff x="4594320" y="1967040"/>
              <a:chExt cx="1187280" cy="13017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594320" y="196704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4603680" y="257184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708440" y="27306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70080" y="20606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2274840" y="1419120"/>
              <a:ext cx="4000680" cy="151920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65120" y="3338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43320" y="32958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174840" y="33289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33640" y="33084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F4E-4C57-4BE7-A209-5E1E808D4AA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295200" y="228600"/>
            <a:ext cx="8597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33cc"/>
                </a:solidFill>
                <a:uFillTx/>
                <a:latin typeface="Comic Sans MS"/>
              </a:rPr>
              <a:t>ATM:  livello di rete o collegament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53880" y="1185840"/>
            <a:ext cx="3822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ision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sporto end to end: “ATM da scrivania a scrivan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a tecnologia di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altà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ato per collegare router di dorsale IP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su AT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come livello di link commutato, che collega rout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46920" y="4498920"/>
            <a:ext cx="1623960" cy="501840"/>
          </a:xfrm>
          <a:custGeom>
            <a:avLst/>
            <a:gdLst/>
            <a:ahLst/>
            <a:rect l="l" t="t" r="r" b="b"/>
            <a:pathLst>
              <a:path w="1023" h="316">
                <a:moveTo>
                  <a:pt x="413" y="312"/>
                </a:moveTo>
                <a:cubicBezTo>
                  <a:pt x="235" y="316"/>
                  <a:pt x="104" y="311"/>
                  <a:pt x="52" y="285"/>
                </a:cubicBezTo>
                <a:cubicBezTo>
                  <a:pt x="0" y="258"/>
                  <a:pt x="50" y="169"/>
                  <a:pt x="99" y="149"/>
                </a:cubicBezTo>
                <a:cubicBezTo>
                  <a:pt x="148" y="130"/>
                  <a:pt x="316" y="182"/>
                  <a:pt x="349" y="165"/>
                </a:cubicBezTo>
                <a:cubicBezTo>
                  <a:pt x="382" y="148"/>
                  <a:pt x="277" y="73"/>
                  <a:pt x="299" y="47"/>
                </a:cubicBezTo>
                <a:cubicBezTo>
                  <a:pt x="321" y="21"/>
                  <a:pt x="414" y="0"/>
                  <a:pt x="482" y="8"/>
                </a:cubicBezTo>
                <a:cubicBezTo>
                  <a:pt x="550" y="16"/>
                  <a:pt x="670" y="67"/>
                  <a:pt x="705" y="93"/>
                </a:cubicBezTo>
                <a:cubicBezTo>
                  <a:pt x="740" y="119"/>
                  <a:pt x="657" y="148"/>
                  <a:pt x="694" y="163"/>
                </a:cubicBezTo>
                <a:cubicBezTo>
                  <a:pt x="731" y="177"/>
                  <a:pt x="893" y="157"/>
                  <a:pt x="932" y="179"/>
                </a:cubicBezTo>
                <a:cubicBezTo>
                  <a:pt x="972" y="201"/>
                  <a:pt x="1023" y="271"/>
                  <a:pt x="936" y="293"/>
                </a:cubicBezTo>
                <a:cubicBezTo>
                  <a:pt x="849" y="315"/>
                  <a:pt x="523" y="308"/>
                  <a:pt x="413" y="31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43440" y="2352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208480" y="375588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769080" y="4184640"/>
            <a:ext cx="623520" cy="317160"/>
            <a:chOff x="6769080" y="4184640"/>
            <a:chExt cx="623520" cy="317160"/>
          </a:xfrm>
        </p:grpSpPr>
        <p:sp>
          <p:nvSpPr>
            <p:cNvPr id="1622" name=""/>
            <p:cNvSpPr/>
            <p:nvPr/>
          </p:nvSpPr>
          <p:spPr>
            <a:xfrm>
              <a:off x="6774120" y="4326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7412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260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74120" y="4311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69080" y="4184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6917760" y="4229640"/>
              <a:ext cx="306000" cy="119520"/>
              <a:chOff x="6917760" y="4229640"/>
              <a:chExt cx="306000" cy="11952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6917760" y="4229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27640" y="4349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018560" y="4231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6917760" y="4228200"/>
              <a:ext cx="306000" cy="119520"/>
              <a:chOff x="6917760" y="4228200"/>
              <a:chExt cx="306000" cy="119520"/>
            </a:xfrm>
          </p:grpSpPr>
          <p:sp>
            <p:nvSpPr>
              <p:cNvPr id="1632" name=""/>
              <p:cNvSpPr/>
              <p:nvPr/>
            </p:nvSpPr>
            <p:spPr>
              <a:xfrm>
                <a:off x="6917760" y="4345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27640" y="4228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7018560" y="4228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5" name="" descr=""/>
          <p:cNvPicPr/>
          <p:nvPr/>
        </p:nvPicPr>
        <p:blipFill>
          <a:blip r:embed="rId1"/>
          <a:stretch/>
        </p:blipFill>
        <p:spPr>
          <a:xfrm>
            <a:off x="4724280" y="502272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2"/>
          <a:stretch/>
        </p:blipFill>
        <p:spPr>
          <a:xfrm>
            <a:off x="7410600" y="199404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1637" name="" descr=""/>
          <p:cNvPicPr/>
          <p:nvPr/>
        </p:nvPicPr>
        <p:blipFill>
          <a:blip r:embed="rId3"/>
          <a:stretch/>
        </p:blipFill>
        <p:spPr>
          <a:xfrm>
            <a:off x="6840360" y="5003640"/>
            <a:ext cx="524160" cy="454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5205240" y="390528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59320" y="44416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10120" y="426708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10120" y="44798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010120" y="4667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5478480" y="4273560"/>
            <a:ext cx="622080" cy="315720"/>
            <a:chOff x="5478480" y="4273560"/>
            <a:chExt cx="622080" cy="315720"/>
          </a:xfrm>
        </p:grpSpPr>
        <p:sp>
          <p:nvSpPr>
            <p:cNvPr id="1644" name=""/>
            <p:cNvSpPr/>
            <p:nvPr/>
          </p:nvSpPr>
          <p:spPr>
            <a:xfrm>
              <a:off x="5483520" y="441432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8352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10056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83520" y="439956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78480" y="427356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5626800" y="4318560"/>
              <a:ext cx="305640" cy="119160"/>
              <a:chOff x="5626800" y="4318560"/>
              <a:chExt cx="305640" cy="119160"/>
            </a:xfrm>
          </p:grpSpPr>
          <p:sp>
            <p:nvSpPr>
              <p:cNvPr id="1650" name=""/>
              <p:cNvSpPr/>
              <p:nvPr/>
            </p:nvSpPr>
            <p:spPr>
              <a:xfrm flipV="1">
                <a:off x="5626800" y="43185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36320" y="44377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27240" y="432072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626800" y="4316400"/>
              <a:ext cx="305640" cy="119160"/>
              <a:chOff x="5626800" y="4316400"/>
              <a:chExt cx="305640" cy="119160"/>
            </a:xfrm>
          </p:grpSpPr>
          <p:sp>
            <p:nvSpPr>
              <p:cNvPr id="1654" name=""/>
              <p:cNvSpPr/>
              <p:nvPr/>
            </p:nvSpPr>
            <p:spPr>
              <a:xfrm>
                <a:off x="5626800" y="4433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36320" y="4316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5727240" y="431676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7" name="" descr=""/>
          <p:cNvPicPr/>
          <p:nvPr/>
        </p:nvPicPr>
        <p:blipFill>
          <a:blip r:embed="rId4"/>
          <a:stretch/>
        </p:blipFill>
        <p:spPr>
          <a:xfrm>
            <a:off x="8029440" y="496584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 rot="16209600">
            <a:off x="7644960" y="4270320"/>
            <a:ext cx="16848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7336080" y="4457520"/>
            <a:ext cx="63936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408800" y="2384280"/>
            <a:ext cx="252360" cy="4334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64440" y="3929040"/>
            <a:ext cx="109440" cy="2858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72240" y="3462480"/>
            <a:ext cx="115920" cy="750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5"/>
          <a:stretch/>
        </p:blipFill>
        <p:spPr>
          <a:xfrm>
            <a:off x="4697280" y="3549600"/>
            <a:ext cx="524160" cy="45396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5549760" y="2743200"/>
            <a:ext cx="2219400" cy="128268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57720" y="2387520"/>
            <a:ext cx="7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83400" y="1770120"/>
            <a:ext cx="7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251400" y="2446200"/>
            <a:ext cx="63036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46920" y="2890800"/>
            <a:ext cx="100620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432-1922-408A-A20D-FA1EB9F1987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1" i="1" lang="it-IT" sz="2200" spc="-1" strike="noStrike">
                <a:solidFill>
                  <a:srgbClr val="000000"/>
                </a:solidFill>
                <a:latin typeface="Comic Sans MS"/>
              </a:rPr>
              <a:t>Adaptation Layer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AAL): “adatta” i livelli superiori (IP o applicazioni ATM native) al sottostante livello AT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AL è presente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solo nei sistemi terminali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e non nei commutator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Segmento di livello AAL frammentato su più celle AT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nalogia: segmenti TCP in vari pacchetti I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2047680" y="4799160"/>
            <a:ext cx="4500720" cy="1877040"/>
            <a:chOff x="2047680" y="4799160"/>
            <a:chExt cx="4500720" cy="1877040"/>
          </a:xfrm>
        </p:grpSpPr>
        <p:grpSp>
          <p:nvGrpSpPr>
            <p:cNvPr id="1672" name=""/>
            <p:cNvGrpSpPr/>
            <p:nvPr/>
          </p:nvGrpSpPr>
          <p:grpSpPr>
            <a:xfrm>
              <a:off x="2073240" y="4804560"/>
              <a:ext cx="848520" cy="1470240"/>
              <a:chOff x="2073240" y="4804560"/>
              <a:chExt cx="848520" cy="1470240"/>
            </a:xfrm>
          </p:grpSpPr>
          <p:grpSp>
            <p:nvGrpSpPr>
              <p:cNvPr id="1673" name=""/>
              <p:cNvGrpSpPr/>
              <p:nvPr/>
            </p:nvGrpSpPr>
            <p:grpSpPr>
              <a:xfrm>
                <a:off x="2073240" y="4804560"/>
                <a:ext cx="848520" cy="1470240"/>
                <a:chOff x="2073240" y="4804560"/>
                <a:chExt cx="848520" cy="147024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2073240" y="4804560"/>
                  <a:ext cx="84852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>
                  <a:off x="2079360" y="57765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>
                  <a:off x="2073600" y="52887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165760" y="58914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283840" y="541116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289600" y="492588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482080" y="4799160"/>
              <a:ext cx="848160" cy="1470240"/>
              <a:chOff x="5482080" y="4799160"/>
              <a:chExt cx="848160" cy="147024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5482080" y="4799160"/>
                <a:ext cx="848160" cy="1470240"/>
                <a:chOff x="5482080" y="4799160"/>
                <a:chExt cx="848160" cy="1470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5482080" y="4799160"/>
                  <a:ext cx="84816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5488560" y="57711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5482800" y="52833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5571720" y="58860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92320" y="54072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97000" y="4919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3212640" y="5325480"/>
              <a:ext cx="848160" cy="930240"/>
              <a:chOff x="3212640" y="5325480"/>
              <a:chExt cx="848160" cy="930240"/>
            </a:xfrm>
          </p:grpSpPr>
          <p:sp>
            <p:nvSpPr>
              <p:cNvPr id="1689" name=""/>
              <p:cNvSpPr/>
              <p:nvPr/>
            </p:nvSpPr>
            <p:spPr>
              <a:xfrm>
                <a:off x="3212640" y="5325480"/>
                <a:ext cx="848160" cy="93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219120" y="575748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304800" y="58719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24320" y="53920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4350960" y="5327640"/>
              <a:ext cx="848160" cy="929880"/>
              <a:chOff x="4350960" y="5327640"/>
              <a:chExt cx="848160" cy="929880"/>
            </a:xfrm>
          </p:grpSpPr>
          <p:sp>
            <p:nvSpPr>
              <p:cNvPr id="1694" name=""/>
              <p:cNvSpPr/>
              <p:nvPr/>
            </p:nvSpPr>
            <p:spPr>
              <a:xfrm>
                <a:off x="4350960" y="5327640"/>
                <a:ext cx="848160" cy="92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4357440" y="575964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443120" y="58730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62640" y="53942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8" name=""/>
            <p:cNvSpPr/>
            <p:nvPr/>
          </p:nvSpPr>
          <p:spPr>
            <a:xfrm>
              <a:off x="2692800" y="4935960"/>
              <a:ext cx="2859480" cy="108576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047680" y="63079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90640" y="62784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44760" y="63025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58960" y="62863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DBA-D583-4D8C-9DA9-1A705062B98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46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06080" y="1141560"/>
            <a:ext cx="847404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rsioni di livelli AAL, in base alla classe di servizio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1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costante, C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nstant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emulazione di circui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2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variabile, V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Variable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video M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5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dati (es., datagrammi IP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038320" y="3708360"/>
            <a:ext cx="6437520" cy="279720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574560" y="4635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U 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22080" y="5594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6560" y="3808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8F2-E40A-4D19-B562-C6560E1D5D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55680" y="198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525600" y="995040"/>
            <a:ext cx="82152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rviz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rasporto di celle attraverso la rete AT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servizi sono molto differenti d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410760" y="2511360"/>
            <a:ext cx="1482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te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56600" y="2511360"/>
            <a:ext cx="13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79960" y="2828880"/>
            <a:ext cx="11851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rghe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i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99960" y="3328920"/>
            <a:ext cx="84297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4720" y="4062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52600" y="468144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52600" y="5310360"/>
            <a:ext cx="8429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61960" y="58910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631760" y="2852640"/>
            <a:ext cx="8236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d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417280" y="2862360"/>
            <a:ext cx="7887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74080" y="2862360"/>
            <a:ext cx="7902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271640" y="2530440"/>
            <a:ext cx="178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 (dedo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c’è perd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662000" y="23796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an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81480" y="280512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930-BB43-458F-BDF7-0B7FED8FDD9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9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anale virtuale (VC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07880" y="1300320"/>
            <a:ext cx="806616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percorso che consiste in una sequenza di collegamenti fra sorgente e destinazio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stazione della chiamata, prima di avviare la trasmissione da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iascun pacchetto ha un identificatore del circuito virtuale (VC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ni switch sul percorso origine-destinazione mantiene lo “stato” per ciascuna connessione pass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 VC possono essere allocati collegamento e risorse di commutazione (banda, buff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permanente (P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permanent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connessioni di lunga dur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celle ATM sono instradate dal punto d’ingresso a quello d’u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dinamico (S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switched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eato o cancellato dinamicamente, su richie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B0D-8265-4FFD-9031-3083F1E2044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dattator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4412880"/>
            <a:ext cx="4311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mitt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apsula un datagramma in un fram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mposta il bit rilevazione degli errori, trasferimento dati affidabile, controllo di flusso, etc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7400" y="4377960"/>
            <a:ext cx="409104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ricev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dividua gli errori, trasferimento dati affidabile, controllo di flusso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trae i datagrammi e li passa al nodo ricev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37880" y="3059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mit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29400" y="30574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rice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2720" y="1967040"/>
            <a:ext cx="717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6840" y="19479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23040" y="1986120"/>
            <a:ext cx="7156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88480" y="196704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/>
            <a:ahLst/>
            <a:rect l="l" t="t" r="r" b="b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1440" y="3419640"/>
            <a:ext cx="7174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90000" y="3387600"/>
            <a:ext cx="96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7480" y="36687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7B7-3B8B-4C9F-9D8E-999ADE9ED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nali virtual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547560" y="1519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tazioni e QoS sono garantite (ampiezza di banda, ritardo/perdita, ji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adeguato supporto al traffico dei pacch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PVC tra ciascuna coppia sorgente/destinatario: problemi di scalabi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ccesso di elaborazione per connessioni di breve du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91B-57B7-4B78-A583-7C434150BE0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ella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33520" y="134460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stazione: 5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ico utile: 48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ché?: se il carico utile è piccolo -&gt; piccolo ritardo per voce digitalizz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metà strada tra 32 e 64 (compromesso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1927080" y="3722760"/>
            <a:ext cx="5276880" cy="80964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2"/>
          <a:stretch/>
        </p:blipFill>
        <p:spPr>
          <a:xfrm>
            <a:off x="1839960" y="5052960"/>
            <a:ext cx="5361120" cy="158292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389520" y="40273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05280" y="5164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ormato 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FC7-EE12-4644-8EC5-902546501CC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ampi della cella ATM </a:t>
            </a: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(intestazion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71680" y="148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C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dentificatore del canale virtu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VCI di una cella varia da collegamento a collegamen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T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 di carico util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payload t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ca il tipo di carico che la cella contie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CLP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it di priorità sulla perdita di ce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LP = questo bit può essere usato per scegliere le celle da scartare se si verifica una congest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HEC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te d’errore nell’intes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bit per il rilevamento e la correzione dell’errore che proteggono l’intestazione della cell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1"/>
          <a:stretch/>
        </p:blipFill>
        <p:spPr>
          <a:xfrm>
            <a:off x="1706400" y="5653080"/>
            <a:ext cx="527688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CF8-0377-4B2C-B26C-F77B1E40F3F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du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lassi generali del livello fis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Transmission Convergence Sublayer (TCS)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adatta il livello ATM al livello PMD sotto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Physical Medium Dependent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dipende dal mezzo fisico utilizz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zioni TC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zione di una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hecksu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’intestazine: CRC a 8 b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elineazion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 cell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 il livello PMD “non strutturato”, trasmissine di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elle inattiv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quando non ci sono celle di dati da invi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251-4EA0-4FFE-BBE6-383540A9EA2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Alcuni possibili livelli fisici includo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SONET/SDH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synchronous optical network/ synchronous digital hierarchy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, reti ottiche sincrone/gerarchia digitale sincron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ncronizzazione dei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sione di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locità: OC3 = 155.52 Mbps; OC12 = 622.08 Mbps; OC48 = 2.45 Gbps, OC192 = 9.6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T1/T3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su fibra, microonde e cavo: 1.5 Mbps/ 45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Basati su cella senza frame.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 questo caso, la temporizzazione al ricevente è derivata da un segnale trasmess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CAE-81E2-4C49-93CE-A29E63E9DA7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2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550440" y="1077840"/>
            <a:ext cx="33973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lo 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“reti” (es., segmenti LA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 (802.3) e indirizzi I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73280" y="3152880"/>
            <a:ext cx="2479320" cy="3260160"/>
            <a:chOff x="773280" y="3152880"/>
            <a:chExt cx="2479320" cy="3260160"/>
          </a:xfrm>
        </p:grpSpPr>
        <p:sp>
          <p:nvSpPr>
            <p:cNvPr id="1745" name=""/>
            <p:cNvSpPr/>
            <p:nvPr/>
          </p:nvSpPr>
          <p:spPr>
            <a:xfrm>
              <a:off x="1628640" y="5553360"/>
              <a:ext cx="1623960" cy="403200"/>
            </a:xfrm>
            <a:custGeom>
              <a:avLst/>
              <a:gdLst/>
              <a:ahLst/>
              <a:rect l="l" t="t" r="r" b="b"/>
              <a:pathLst>
                <a:path w="824" h="187">
                  <a:moveTo>
                    <a:pt x="333" y="184"/>
                  </a:moveTo>
                  <a:cubicBezTo>
                    <a:pt x="189" y="187"/>
                    <a:pt x="84" y="183"/>
                    <a:pt x="42" y="164"/>
                  </a:cubicBezTo>
                  <a:cubicBezTo>
                    <a:pt x="0" y="144"/>
                    <a:pt x="40" y="79"/>
                    <a:pt x="80" y="64"/>
                  </a:cubicBezTo>
                  <a:cubicBezTo>
                    <a:pt x="119" y="50"/>
                    <a:pt x="217" y="74"/>
                    <a:pt x="281" y="76"/>
                  </a:cubicBezTo>
                  <a:cubicBezTo>
                    <a:pt x="345" y="78"/>
                    <a:pt x="431" y="85"/>
                    <a:pt x="466" y="74"/>
                  </a:cubicBezTo>
                  <a:cubicBezTo>
                    <a:pt x="501" y="63"/>
                    <a:pt x="476" y="16"/>
                    <a:pt x="493" y="8"/>
                  </a:cubicBezTo>
                  <a:cubicBezTo>
                    <a:pt x="510" y="0"/>
                    <a:pt x="557" y="12"/>
                    <a:pt x="568" y="23"/>
                  </a:cubicBezTo>
                  <a:cubicBezTo>
                    <a:pt x="579" y="34"/>
                    <a:pt x="529" y="63"/>
                    <a:pt x="559" y="74"/>
                  </a:cubicBezTo>
                  <a:cubicBezTo>
                    <a:pt x="589" y="85"/>
                    <a:pt x="719" y="70"/>
                    <a:pt x="751" y="86"/>
                  </a:cubicBezTo>
                  <a:cubicBezTo>
                    <a:pt x="783" y="102"/>
                    <a:pt x="824" y="154"/>
                    <a:pt x="754" y="170"/>
                  </a:cubicBezTo>
                  <a:cubicBezTo>
                    <a:pt x="684" y="186"/>
                    <a:pt x="421" y="181"/>
                    <a:pt x="333" y="18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44880" y="3279600"/>
              <a:ext cx="648360" cy="2290680"/>
            </a:xfrm>
            <a:custGeom>
              <a:avLst/>
              <a:gdLst/>
              <a:ahLst/>
              <a:rect l="l" t="t" r="r" b="b"/>
              <a:pathLst>
                <a:path w="329" h="1063">
                  <a:moveTo>
                    <a:pt x="24" y="340"/>
                  </a:moveTo>
                  <a:cubicBezTo>
                    <a:pt x="22" y="215"/>
                    <a:pt x="27" y="98"/>
                    <a:pt x="48" y="49"/>
                  </a:cubicBezTo>
                  <a:cubicBezTo>
                    <a:pt x="69" y="0"/>
                    <a:pt x="109" y="42"/>
                    <a:pt x="150" y="43"/>
                  </a:cubicBezTo>
                  <a:cubicBezTo>
                    <a:pt x="191" y="44"/>
                    <a:pt x="271" y="46"/>
                    <a:pt x="297" y="55"/>
                  </a:cubicBezTo>
                  <a:cubicBezTo>
                    <a:pt x="323" y="64"/>
                    <a:pt x="329" y="83"/>
                    <a:pt x="306" y="94"/>
                  </a:cubicBezTo>
                  <a:cubicBezTo>
                    <a:pt x="283" y="105"/>
                    <a:pt x="185" y="92"/>
                    <a:pt x="156" y="124"/>
                  </a:cubicBezTo>
                  <a:cubicBezTo>
                    <a:pt x="127" y="156"/>
                    <a:pt x="135" y="209"/>
                    <a:pt x="132" y="289"/>
                  </a:cubicBezTo>
                  <a:cubicBezTo>
                    <a:pt x="129" y="369"/>
                    <a:pt x="137" y="501"/>
                    <a:pt x="135" y="607"/>
                  </a:cubicBezTo>
                  <a:cubicBezTo>
                    <a:pt x="133" y="713"/>
                    <a:pt x="112" y="866"/>
                    <a:pt x="120" y="925"/>
                  </a:cubicBezTo>
                  <a:cubicBezTo>
                    <a:pt x="128" y="984"/>
                    <a:pt x="181" y="947"/>
                    <a:pt x="186" y="964"/>
                  </a:cubicBezTo>
                  <a:cubicBezTo>
                    <a:pt x="191" y="981"/>
                    <a:pt x="180" y="1029"/>
                    <a:pt x="153" y="1027"/>
                  </a:cubicBezTo>
                  <a:cubicBezTo>
                    <a:pt x="126" y="1025"/>
                    <a:pt x="42" y="1063"/>
                    <a:pt x="21" y="949"/>
                  </a:cubicBezTo>
                  <a:cubicBezTo>
                    <a:pt x="0" y="835"/>
                    <a:pt x="23" y="467"/>
                    <a:pt x="24" y="34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83400" y="3695760"/>
              <a:ext cx="287640" cy="1868400"/>
            </a:xfrm>
            <a:custGeom>
              <a:avLst/>
              <a:gdLst/>
              <a:ahLst/>
              <a:rect l="l" t="t" r="r" b="b"/>
              <a:pathLst>
                <a:path w="146" h="867">
                  <a:moveTo>
                    <a:pt x="2" y="333"/>
                  </a:moveTo>
                  <a:cubicBezTo>
                    <a:pt x="0" y="208"/>
                    <a:pt x="6" y="84"/>
                    <a:pt x="26" y="42"/>
                  </a:cubicBezTo>
                  <a:cubicBezTo>
                    <a:pt x="46" y="0"/>
                    <a:pt x="106" y="23"/>
                    <a:pt x="125" y="81"/>
                  </a:cubicBezTo>
                  <a:cubicBezTo>
                    <a:pt x="144" y="139"/>
                    <a:pt x="140" y="306"/>
                    <a:pt x="143" y="393"/>
                  </a:cubicBezTo>
                  <a:cubicBezTo>
                    <a:pt x="146" y="480"/>
                    <a:pt x="145" y="538"/>
                    <a:pt x="140" y="603"/>
                  </a:cubicBezTo>
                  <a:cubicBezTo>
                    <a:pt x="135" y="668"/>
                    <a:pt x="127" y="755"/>
                    <a:pt x="110" y="786"/>
                  </a:cubicBezTo>
                  <a:cubicBezTo>
                    <a:pt x="93" y="817"/>
                    <a:pt x="56" y="867"/>
                    <a:pt x="38" y="792"/>
                  </a:cubicBezTo>
                  <a:cubicBezTo>
                    <a:pt x="20" y="717"/>
                    <a:pt x="4" y="458"/>
                    <a:pt x="2" y="33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2456280" y="5262480"/>
              <a:ext cx="622440" cy="316080"/>
              <a:chOff x="2456280" y="5262480"/>
              <a:chExt cx="622440" cy="316080"/>
            </a:xfrm>
          </p:grpSpPr>
          <p:sp>
            <p:nvSpPr>
              <p:cNvPr id="1749" name=""/>
              <p:cNvSpPr/>
              <p:nvPr/>
            </p:nvSpPr>
            <p:spPr>
              <a:xfrm>
                <a:off x="2461320" y="540360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4613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0787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461320" y="538884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456280" y="526248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4" name=""/>
              <p:cNvGrpSpPr/>
              <p:nvPr/>
            </p:nvGrpSpPr>
            <p:grpSpPr>
              <a:xfrm>
                <a:off x="2604600" y="5307480"/>
                <a:ext cx="305640" cy="119160"/>
                <a:chOff x="2604600" y="5307480"/>
                <a:chExt cx="305640" cy="119160"/>
              </a:xfrm>
            </p:grpSpPr>
            <p:sp>
              <p:nvSpPr>
                <p:cNvPr id="1755" name=""/>
                <p:cNvSpPr/>
                <p:nvPr/>
              </p:nvSpPr>
              <p:spPr>
                <a:xfrm flipV="1">
                  <a:off x="2604600" y="530748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14120" y="542664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705040" y="530964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2604600" y="5305320"/>
                <a:ext cx="305640" cy="119160"/>
                <a:chOff x="2604600" y="5305320"/>
                <a:chExt cx="305640" cy="11916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2604600" y="54223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814120" y="530532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2705040" y="53056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62" name="" descr=""/>
            <p:cNvPicPr/>
            <p:nvPr/>
          </p:nvPicPr>
          <p:blipFill>
            <a:blip r:embed="rId1"/>
            <a:stretch/>
          </p:blipFill>
          <p:spPr>
            <a:xfrm>
              <a:off x="773280" y="34884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2"/>
            <a:stretch/>
          </p:blipFill>
          <p:spPr>
            <a:xfrm>
              <a:off x="800640" y="496296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3"/>
            <a:stretch/>
          </p:blipFill>
          <p:spPr>
            <a:xfrm>
              <a:off x="2675160" y="315288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"/>
            <a:stretch/>
          </p:blipFill>
          <p:spPr>
            <a:xfrm>
              <a:off x="1522080" y="595872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"/>
            <p:cNvSpPr/>
            <p:nvPr/>
          </p:nvSpPr>
          <p:spPr>
            <a:xfrm>
              <a:off x="1281600" y="3844440"/>
              <a:ext cx="153720" cy="144792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43532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6480" y="420660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6480" y="4419360"/>
              <a:ext cx="92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6480" y="460728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1553400" y="4212720"/>
              <a:ext cx="622440" cy="316080"/>
              <a:chOff x="1553400" y="4212720"/>
              <a:chExt cx="622440" cy="316080"/>
            </a:xfrm>
          </p:grpSpPr>
          <p:sp>
            <p:nvSpPr>
              <p:cNvPr id="1772" name=""/>
              <p:cNvSpPr/>
              <p:nvPr/>
            </p:nvSpPr>
            <p:spPr>
              <a:xfrm>
                <a:off x="1558440" y="435384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5584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758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558440" y="433908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553400" y="421272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1701720" y="4257720"/>
                <a:ext cx="305640" cy="119160"/>
                <a:chOff x="1701720" y="4257720"/>
                <a:chExt cx="305640" cy="119160"/>
              </a:xfrm>
            </p:grpSpPr>
            <p:sp>
              <p:nvSpPr>
                <p:cNvPr id="1778" name=""/>
                <p:cNvSpPr/>
                <p:nvPr/>
              </p:nvSpPr>
              <p:spPr>
                <a:xfrm flipV="1">
                  <a:off x="1701720" y="42577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911240" y="437688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1802160" y="42598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1701720" y="4255560"/>
                <a:ext cx="305640" cy="119160"/>
                <a:chOff x="1701720" y="4255560"/>
                <a:chExt cx="305640" cy="1191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1701720" y="437256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1911240" y="425556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V="1">
                  <a:off x="1802160" y="425592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5" name=""/>
            <p:cNvSpPr/>
            <p:nvPr/>
          </p:nvSpPr>
          <p:spPr>
            <a:xfrm>
              <a:off x="2300760" y="3437280"/>
              <a:ext cx="470880" cy="1978200"/>
            </a:xfrm>
            <a:custGeom>
              <a:avLst/>
              <a:gdLst/>
              <a:ahLst/>
              <a:rect l="l" t="t" r="r" b="b"/>
              <a:pathLst>
                <a:path w="239" h="918">
                  <a:moveTo>
                    <a:pt x="239" y="3"/>
                  </a:moveTo>
                  <a:lnTo>
                    <a:pt x="0" y="0"/>
                  </a:lnTo>
                  <a:lnTo>
                    <a:pt x="0" y="918"/>
                  </a:lnTo>
                  <a:lnTo>
                    <a:pt x="78" y="9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215640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7" name="" descr=""/>
            <p:cNvPicPr/>
            <p:nvPr/>
          </p:nvPicPr>
          <p:blipFill>
            <a:blip r:embed="rId5"/>
            <a:stretch/>
          </p:blipFill>
          <p:spPr>
            <a:xfrm>
              <a:off x="2710440" y="59220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 rot="16209600">
              <a:off x="2327040" y="5224680"/>
              <a:ext cx="167400" cy="132408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656440" y="5583600"/>
              <a:ext cx="144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4587840" y="673200"/>
            <a:ext cx="37227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P su AT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stituisce “le reti”  (es., segmento LAN) con la rete AT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rizzi ATM e indirizzi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778360" y="5537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253200" y="3505320"/>
            <a:ext cx="1500120" cy="180648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433840" y="3679920"/>
            <a:ext cx="28764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605640" y="5246640"/>
            <a:ext cx="623520" cy="317160"/>
            <a:chOff x="6605640" y="5246640"/>
            <a:chExt cx="623520" cy="317160"/>
          </a:xfrm>
        </p:grpSpPr>
        <p:sp>
          <p:nvSpPr>
            <p:cNvPr id="1795" name=""/>
            <p:cNvSpPr/>
            <p:nvPr/>
          </p:nvSpPr>
          <p:spPr>
            <a:xfrm>
              <a:off x="6610680" y="5388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1068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2916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10680" y="5373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05640" y="5246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6754320" y="5291640"/>
              <a:ext cx="306000" cy="119520"/>
              <a:chOff x="6754320" y="5291640"/>
              <a:chExt cx="306000" cy="119520"/>
            </a:xfrm>
          </p:grpSpPr>
          <p:sp>
            <p:nvSpPr>
              <p:cNvPr id="1801" name=""/>
              <p:cNvSpPr/>
              <p:nvPr/>
            </p:nvSpPr>
            <p:spPr>
              <a:xfrm flipV="1">
                <a:off x="6754320" y="5291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964200" y="5411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855120" y="5293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6754320" y="5290200"/>
              <a:ext cx="306000" cy="119520"/>
              <a:chOff x="6754320" y="5290200"/>
              <a:chExt cx="306000" cy="119520"/>
            </a:xfrm>
          </p:grpSpPr>
          <p:sp>
            <p:nvSpPr>
              <p:cNvPr id="1805" name=""/>
              <p:cNvSpPr/>
              <p:nvPr/>
            </p:nvSpPr>
            <p:spPr>
              <a:xfrm>
                <a:off x="6754320" y="5407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64200" y="5290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6855120" y="5290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08" name="" descr=""/>
          <p:cNvPicPr/>
          <p:nvPr/>
        </p:nvPicPr>
        <p:blipFill>
          <a:blip r:embed="rId6"/>
          <a:stretch/>
        </p:blipFill>
        <p:spPr>
          <a:xfrm>
            <a:off x="4923000" y="3473280"/>
            <a:ext cx="523800" cy="45432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7"/>
          <a:stretch/>
        </p:blipFill>
        <p:spPr>
          <a:xfrm>
            <a:off x="4950000" y="4946760"/>
            <a:ext cx="525240" cy="455400"/>
          </a:xfrm>
          <a:prstGeom prst="rect">
            <a:avLst/>
          </a:prstGeom>
          <a:ln w="0">
            <a:noFill/>
          </a:ln>
        </p:spPr>
      </p:pic>
      <p:pic>
        <p:nvPicPr>
          <p:cNvPr id="1810" name="" descr=""/>
          <p:cNvPicPr/>
          <p:nvPr/>
        </p:nvPicPr>
        <p:blipFill>
          <a:blip r:embed="rId8"/>
          <a:stretch/>
        </p:blipFill>
        <p:spPr>
          <a:xfrm>
            <a:off x="6824520" y="3137040"/>
            <a:ext cx="524160" cy="453960"/>
          </a:xfrm>
          <a:prstGeom prst="rect">
            <a:avLst/>
          </a:prstGeom>
          <a:ln w="0">
            <a:noFill/>
          </a:ln>
        </p:spPr>
      </p:pic>
      <p:pic>
        <p:nvPicPr>
          <p:cNvPr id="1811" name="" descr=""/>
          <p:cNvPicPr/>
          <p:nvPr/>
        </p:nvPicPr>
        <p:blipFill>
          <a:blip r:embed="rId9"/>
          <a:stretch/>
        </p:blipFill>
        <p:spPr>
          <a:xfrm>
            <a:off x="5672160" y="594360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5430960" y="3828960"/>
            <a:ext cx="15372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84680" y="436572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235480" y="419112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35480" y="44038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235480" y="45910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5703840" y="4197240"/>
            <a:ext cx="622080" cy="315720"/>
            <a:chOff x="5703840" y="4197240"/>
            <a:chExt cx="622080" cy="315720"/>
          </a:xfrm>
        </p:grpSpPr>
        <p:sp>
          <p:nvSpPr>
            <p:cNvPr id="1818" name=""/>
            <p:cNvSpPr/>
            <p:nvPr/>
          </p:nvSpPr>
          <p:spPr>
            <a:xfrm>
              <a:off x="5708880" y="433800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70888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2592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708880" y="432324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703840" y="419724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852160" y="4242240"/>
              <a:ext cx="305640" cy="119160"/>
              <a:chOff x="5852160" y="4242240"/>
              <a:chExt cx="305640" cy="119160"/>
            </a:xfrm>
          </p:grpSpPr>
          <p:sp>
            <p:nvSpPr>
              <p:cNvPr id="1824" name=""/>
              <p:cNvSpPr/>
              <p:nvPr/>
            </p:nvSpPr>
            <p:spPr>
              <a:xfrm flipV="1">
                <a:off x="5852160" y="4242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061680" y="4361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952600" y="424440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5852160" y="4240080"/>
              <a:ext cx="305640" cy="119160"/>
              <a:chOff x="5852160" y="4240080"/>
              <a:chExt cx="305640" cy="119160"/>
            </a:xfrm>
          </p:grpSpPr>
          <p:sp>
            <p:nvSpPr>
              <p:cNvPr id="1828" name=""/>
              <p:cNvSpPr/>
              <p:nvPr/>
            </p:nvSpPr>
            <p:spPr>
              <a:xfrm>
                <a:off x="5852160" y="43570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061680" y="424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952600" y="424044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1" name=""/>
          <p:cNvSpPr/>
          <p:nvPr/>
        </p:nvSpPr>
        <p:spPr>
          <a:xfrm>
            <a:off x="6310440" y="420516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" descr=""/>
          <p:cNvPicPr/>
          <p:nvPr/>
        </p:nvPicPr>
        <p:blipFill>
          <a:blip r:embed="rId10"/>
          <a:stretch/>
        </p:blipFill>
        <p:spPr>
          <a:xfrm>
            <a:off x="6861240" y="5905440"/>
            <a:ext cx="523800" cy="45576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/>
          <p:nvPr/>
        </p:nvSpPr>
        <p:spPr>
          <a:xfrm rot="16209600">
            <a:off x="6476760" y="5209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6807240" y="5567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6738840" y="3830760"/>
            <a:ext cx="554040" cy="468360"/>
            <a:chOff x="6738840" y="3830760"/>
            <a:chExt cx="554040" cy="468360"/>
          </a:xfrm>
        </p:grpSpPr>
        <p:sp>
          <p:nvSpPr>
            <p:cNvPr id="1836" name=""/>
            <p:cNvSpPr/>
            <p:nvPr/>
          </p:nvSpPr>
          <p:spPr>
            <a:xfrm>
              <a:off x="6859800" y="3835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40640" y="3902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6807240" y="4032000"/>
              <a:ext cx="304560" cy="119160"/>
              <a:chOff x="6807240" y="4032000"/>
              <a:chExt cx="304560" cy="119160"/>
            </a:xfrm>
          </p:grpSpPr>
          <p:sp>
            <p:nvSpPr>
              <p:cNvPr id="1839" name=""/>
              <p:cNvSpPr/>
              <p:nvPr/>
            </p:nvSpPr>
            <p:spPr>
              <a:xfrm>
                <a:off x="6807240" y="4149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016040" y="4032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6907320" y="4032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802560" y="4024440"/>
              <a:ext cx="303840" cy="119160"/>
              <a:chOff x="6802560" y="4024440"/>
              <a:chExt cx="303840" cy="119160"/>
            </a:xfrm>
          </p:grpSpPr>
          <p:sp>
            <p:nvSpPr>
              <p:cNvPr id="1843" name=""/>
              <p:cNvSpPr/>
              <p:nvPr/>
            </p:nvSpPr>
            <p:spPr>
              <a:xfrm flipV="1">
                <a:off x="6802560" y="4024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11000" y="4143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02640" y="4026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6738840" y="3830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162920" y="3830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7016760" y="4643280"/>
            <a:ext cx="554040" cy="468360"/>
            <a:chOff x="7016760" y="4643280"/>
            <a:chExt cx="554040" cy="468360"/>
          </a:xfrm>
        </p:grpSpPr>
        <p:sp>
          <p:nvSpPr>
            <p:cNvPr id="1849" name=""/>
            <p:cNvSpPr/>
            <p:nvPr/>
          </p:nvSpPr>
          <p:spPr>
            <a:xfrm>
              <a:off x="7137720" y="4647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018560" y="4714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7085160" y="4844520"/>
              <a:ext cx="304560" cy="119160"/>
              <a:chOff x="7085160" y="4844520"/>
              <a:chExt cx="304560" cy="119160"/>
            </a:xfrm>
          </p:grpSpPr>
          <p:sp>
            <p:nvSpPr>
              <p:cNvPr id="1852" name=""/>
              <p:cNvSpPr/>
              <p:nvPr/>
            </p:nvSpPr>
            <p:spPr>
              <a:xfrm>
                <a:off x="7085160" y="4961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93960" y="4844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185240" y="4844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7080480" y="4836960"/>
              <a:ext cx="303840" cy="119160"/>
              <a:chOff x="7080480" y="4836960"/>
              <a:chExt cx="303840" cy="119160"/>
            </a:xfrm>
          </p:grpSpPr>
          <p:sp>
            <p:nvSpPr>
              <p:cNvPr id="1856" name=""/>
              <p:cNvSpPr/>
              <p:nvPr/>
            </p:nvSpPr>
            <p:spPr>
              <a:xfrm flipV="1">
                <a:off x="7080480" y="4836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288920" y="4956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180560" y="4839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016760" y="4643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40840" y="4643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7034040" y="3576600"/>
            <a:ext cx="100080" cy="2430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101000" y="5110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067520" y="430524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926120" y="3252960"/>
            <a:ext cx="6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7577280" y="3611520"/>
            <a:ext cx="39816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89440" y="5802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1258920" y="4927320"/>
            <a:ext cx="89208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263600" y="5396040"/>
            <a:ext cx="14148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1257480" y="5738400"/>
            <a:ext cx="44892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394520" y="582120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369040" y="5415120"/>
            <a:ext cx="14112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5362560" y="575748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CCB-4704-45EA-8542-293892FF341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4976640" y="5456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878280" y="3333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84480" y="3610080"/>
            <a:ext cx="28728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5803920" y="5165640"/>
            <a:ext cx="623520" cy="317160"/>
            <a:chOff x="5803920" y="5165640"/>
            <a:chExt cx="623520" cy="317160"/>
          </a:xfrm>
        </p:grpSpPr>
        <p:sp>
          <p:nvSpPr>
            <p:cNvPr id="1878" name=""/>
            <p:cNvSpPr/>
            <p:nvPr/>
          </p:nvSpPr>
          <p:spPr>
            <a:xfrm>
              <a:off x="5808960" y="5307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0896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2744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08960" y="5292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803920" y="5165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5952600" y="5210640"/>
              <a:ext cx="306000" cy="119520"/>
              <a:chOff x="5952600" y="5210640"/>
              <a:chExt cx="306000" cy="119520"/>
            </a:xfrm>
          </p:grpSpPr>
          <p:sp>
            <p:nvSpPr>
              <p:cNvPr id="1884" name=""/>
              <p:cNvSpPr/>
              <p:nvPr/>
            </p:nvSpPr>
            <p:spPr>
              <a:xfrm flipV="1">
                <a:off x="5952600" y="5210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162480" y="5330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053400" y="5212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5952600" y="5209200"/>
              <a:ext cx="306000" cy="119520"/>
              <a:chOff x="5952600" y="5209200"/>
              <a:chExt cx="306000" cy="119520"/>
            </a:xfrm>
          </p:grpSpPr>
          <p:sp>
            <p:nvSpPr>
              <p:cNvPr id="1888" name=""/>
              <p:cNvSpPr/>
              <p:nvPr/>
            </p:nvSpPr>
            <p:spPr>
              <a:xfrm>
                <a:off x="5952600" y="5326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162480" y="5209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6053400" y="5209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91" name=""/>
          <p:cNvGraphicFramePr/>
          <p:nvPr/>
        </p:nvGraphicFramePr>
        <p:xfrm>
          <a:off x="2600280" y="4876920"/>
          <a:ext cx="5256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4876920"/>
                    <a:ext cx="5256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"/>
          <p:cNvGraphicFramePr/>
          <p:nvPr/>
        </p:nvGraphicFramePr>
        <p:xfrm>
          <a:off x="6445080" y="2975040"/>
          <a:ext cx="52416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5080" y="2975040"/>
                    <a:ext cx="524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"/>
          <p:cNvGraphicFramePr/>
          <p:nvPr/>
        </p:nvGraphicFramePr>
        <p:xfrm>
          <a:off x="4870440" y="5862600"/>
          <a:ext cx="523800" cy="4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0440" y="5862600"/>
                    <a:ext cx="523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7" name=""/>
          <p:cNvSpPr/>
          <p:nvPr/>
        </p:nvSpPr>
        <p:spPr>
          <a:xfrm>
            <a:off x="3081240" y="375912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235320" y="42958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86120" y="41212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886120" y="43340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86120" y="45212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354480" y="4127400"/>
            <a:ext cx="621720" cy="315720"/>
            <a:chOff x="3354480" y="4127400"/>
            <a:chExt cx="621720" cy="315720"/>
          </a:xfrm>
        </p:grpSpPr>
        <p:sp>
          <p:nvSpPr>
            <p:cNvPr id="1903" name=""/>
            <p:cNvSpPr/>
            <p:nvPr/>
          </p:nvSpPr>
          <p:spPr>
            <a:xfrm>
              <a:off x="3359520" y="426816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5952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97620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59520" y="425340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4480" y="412740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3502800" y="4172400"/>
              <a:ext cx="304920" cy="119160"/>
              <a:chOff x="3502800" y="4172400"/>
              <a:chExt cx="304920" cy="119160"/>
            </a:xfrm>
          </p:grpSpPr>
          <p:sp>
            <p:nvSpPr>
              <p:cNvPr id="1909" name=""/>
              <p:cNvSpPr/>
              <p:nvPr/>
            </p:nvSpPr>
            <p:spPr>
              <a:xfrm flipV="1">
                <a:off x="3502800" y="4172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1960" y="42915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603240" y="41745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3502800" y="4170240"/>
              <a:ext cx="304920" cy="119160"/>
              <a:chOff x="3502800" y="4170240"/>
              <a:chExt cx="304920" cy="119160"/>
            </a:xfrm>
          </p:grpSpPr>
          <p:sp>
            <p:nvSpPr>
              <p:cNvPr id="1913" name=""/>
              <p:cNvSpPr/>
              <p:nvPr/>
            </p:nvSpPr>
            <p:spPr>
              <a:xfrm>
                <a:off x="3502800" y="4287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711960" y="417024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3603240" y="417060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6" name=""/>
          <p:cNvSpPr/>
          <p:nvPr/>
        </p:nvSpPr>
        <p:spPr>
          <a:xfrm>
            <a:off x="5446800" y="4206960"/>
            <a:ext cx="495360" cy="20304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6059520" y="5824440"/>
          <a:ext cx="52380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5824440"/>
                    <a:ext cx="523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9" name=""/>
          <p:cNvSpPr/>
          <p:nvPr/>
        </p:nvSpPr>
        <p:spPr>
          <a:xfrm rot="16209600">
            <a:off x="5675040" y="5128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6005520" y="5486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937120" y="3749760"/>
            <a:ext cx="554040" cy="468360"/>
            <a:chOff x="5937120" y="3749760"/>
            <a:chExt cx="554040" cy="468360"/>
          </a:xfrm>
        </p:grpSpPr>
        <p:sp>
          <p:nvSpPr>
            <p:cNvPr id="1922" name=""/>
            <p:cNvSpPr/>
            <p:nvPr/>
          </p:nvSpPr>
          <p:spPr>
            <a:xfrm>
              <a:off x="6058080" y="3754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38920" y="3821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6005520" y="3951000"/>
              <a:ext cx="304560" cy="119160"/>
              <a:chOff x="6005520" y="3951000"/>
              <a:chExt cx="304560" cy="119160"/>
            </a:xfrm>
          </p:grpSpPr>
          <p:sp>
            <p:nvSpPr>
              <p:cNvPr id="1925" name=""/>
              <p:cNvSpPr/>
              <p:nvPr/>
            </p:nvSpPr>
            <p:spPr>
              <a:xfrm>
                <a:off x="6005520" y="4068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14320" y="3951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6105600" y="3951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6000840" y="3943440"/>
              <a:ext cx="303840" cy="119160"/>
              <a:chOff x="6000840" y="3943440"/>
              <a:chExt cx="303840" cy="119160"/>
            </a:xfrm>
          </p:grpSpPr>
          <p:sp>
            <p:nvSpPr>
              <p:cNvPr id="1929" name=""/>
              <p:cNvSpPr/>
              <p:nvPr/>
            </p:nvSpPr>
            <p:spPr>
              <a:xfrm flipV="1">
                <a:off x="6000840" y="3943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209280" y="4062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00920" y="3945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5937120" y="3749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61200" y="3749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215040" y="4562640"/>
            <a:ext cx="554040" cy="467640"/>
            <a:chOff x="6215040" y="4562640"/>
            <a:chExt cx="554040" cy="467640"/>
          </a:xfrm>
        </p:grpSpPr>
        <p:sp>
          <p:nvSpPr>
            <p:cNvPr id="1935" name=""/>
            <p:cNvSpPr/>
            <p:nvPr/>
          </p:nvSpPr>
          <p:spPr>
            <a:xfrm>
              <a:off x="6336000" y="4566960"/>
              <a:ext cx="433080" cy="399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16840" y="4633560"/>
              <a:ext cx="426960" cy="396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6283440" y="4763880"/>
              <a:ext cx="304560" cy="118800"/>
              <a:chOff x="6283440" y="4763880"/>
              <a:chExt cx="304560" cy="118800"/>
            </a:xfrm>
          </p:grpSpPr>
          <p:sp>
            <p:nvSpPr>
              <p:cNvPr id="1938" name=""/>
              <p:cNvSpPr/>
              <p:nvPr/>
            </p:nvSpPr>
            <p:spPr>
              <a:xfrm>
                <a:off x="6283440" y="4880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92240" y="47638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6383520" y="4764240"/>
                <a:ext cx="11304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6278760" y="4755960"/>
              <a:ext cx="303840" cy="118800"/>
              <a:chOff x="6278760" y="4755960"/>
              <a:chExt cx="303840" cy="118800"/>
            </a:xfrm>
          </p:grpSpPr>
          <p:sp>
            <p:nvSpPr>
              <p:cNvPr id="1942" name=""/>
              <p:cNvSpPr/>
              <p:nvPr/>
            </p:nvSpPr>
            <p:spPr>
              <a:xfrm flipV="1">
                <a:off x="6278760" y="4755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487200" y="48747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378840" y="4758120"/>
                <a:ext cx="11268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215040" y="4562640"/>
              <a:ext cx="552600" cy="6948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639120" y="4562640"/>
              <a:ext cx="129960" cy="46620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6232680" y="3365640"/>
            <a:ext cx="463320" cy="3729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299280" y="5029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6265800" y="4224240"/>
            <a:ext cx="271440" cy="3384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927680" y="4230720"/>
            <a:ext cx="554040" cy="468360"/>
            <a:chOff x="4927680" y="4230720"/>
            <a:chExt cx="554040" cy="468360"/>
          </a:xfrm>
        </p:grpSpPr>
        <p:sp>
          <p:nvSpPr>
            <p:cNvPr id="1951" name=""/>
            <p:cNvSpPr/>
            <p:nvPr/>
          </p:nvSpPr>
          <p:spPr>
            <a:xfrm>
              <a:off x="5048640" y="423540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29480" y="430200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4996080" y="4431960"/>
              <a:ext cx="304560" cy="119160"/>
              <a:chOff x="4996080" y="4431960"/>
              <a:chExt cx="304560" cy="119160"/>
            </a:xfrm>
          </p:grpSpPr>
          <p:sp>
            <p:nvSpPr>
              <p:cNvPr id="1954" name=""/>
              <p:cNvSpPr/>
              <p:nvPr/>
            </p:nvSpPr>
            <p:spPr>
              <a:xfrm>
                <a:off x="4996080" y="4548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204880" y="4431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5096160" y="4432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4991400" y="4424400"/>
              <a:ext cx="303840" cy="119160"/>
              <a:chOff x="4991400" y="4424400"/>
              <a:chExt cx="303840" cy="119160"/>
            </a:xfrm>
          </p:grpSpPr>
          <p:sp>
            <p:nvSpPr>
              <p:cNvPr id="1958" name=""/>
              <p:cNvSpPr/>
              <p:nvPr/>
            </p:nvSpPr>
            <p:spPr>
              <a:xfrm flipV="1">
                <a:off x="4991400" y="4424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199840" y="45435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091480" y="442656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4927680" y="423072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51760" y="423072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 flipV="1">
            <a:off x="5457960" y="4503600"/>
            <a:ext cx="753840" cy="3240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3968640" y="4295880"/>
            <a:ext cx="954360" cy="147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1558800" y="1258920"/>
            <a:ext cx="6863400" cy="2981160"/>
            <a:chOff x="1558800" y="1258920"/>
            <a:chExt cx="6863400" cy="2981160"/>
          </a:xfrm>
        </p:grpSpPr>
        <p:sp>
          <p:nvSpPr>
            <p:cNvPr id="1966" name=""/>
            <p:cNvSpPr/>
            <p:nvPr/>
          </p:nvSpPr>
          <p:spPr>
            <a:xfrm>
              <a:off x="3043080" y="3201840"/>
              <a:ext cx="1324080" cy="938160"/>
            </a:xfrm>
            <a:custGeom>
              <a:avLst/>
              <a:gdLst/>
              <a:ahLst/>
              <a:rect l="l" t="t" r="r" b="b"/>
              <a:pathLst>
                <a:path w="834" h="591">
                  <a:moveTo>
                    <a:pt x="303" y="584"/>
                  </a:moveTo>
                  <a:cubicBezTo>
                    <a:pt x="236" y="185"/>
                    <a:pt x="0" y="0"/>
                    <a:pt x="0" y="0"/>
                  </a:cubicBezTo>
                  <a:lnTo>
                    <a:pt x="834" y="0"/>
                  </a:lnTo>
                  <a:cubicBezTo>
                    <a:pt x="834" y="0"/>
                    <a:pt x="569" y="215"/>
                    <a:pt x="532" y="591"/>
                  </a:cubicBezTo>
                  <a:cubicBezTo>
                    <a:pt x="532" y="591"/>
                    <a:pt x="417" y="587"/>
                    <a:pt x="303" y="584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971800" y="1922400"/>
              <a:ext cx="1413000" cy="1282320"/>
              <a:chOff x="2971800" y="1922400"/>
              <a:chExt cx="1413000" cy="1282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3673440" y="2254320"/>
                <a:ext cx="69228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43080" y="1936800"/>
                <a:ext cx="1312920" cy="12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18000" y="2201760"/>
                <a:ext cx="76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052800" y="225432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51120" y="2536920"/>
                <a:ext cx="712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41640" y="28432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 flipV="1">
                <a:off x="3649680" y="2268360"/>
                <a:ext cx="1440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971800" y="28004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971800" y="23558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333600" y="192240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"/>
            <p:cNvSpPr/>
            <p:nvPr/>
          </p:nvSpPr>
          <p:spPr>
            <a:xfrm>
              <a:off x="4497480" y="3949560"/>
              <a:ext cx="874440" cy="290520"/>
            </a:xfrm>
            <a:custGeom>
              <a:avLst/>
              <a:gdLst/>
              <a:ahLst/>
              <a:rect l="l" t="t" r="r" b="b"/>
              <a:pathLst>
                <a:path w="551" h="183">
                  <a:moveTo>
                    <a:pt x="310" y="180"/>
                  </a:moveTo>
                  <a:cubicBezTo>
                    <a:pt x="125" y="113"/>
                    <a:pt x="215" y="91"/>
                    <a:pt x="0" y="32"/>
                  </a:cubicBezTo>
                  <a:cubicBezTo>
                    <a:pt x="311" y="3"/>
                    <a:pt x="409" y="0"/>
                    <a:pt x="480" y="24"/>
                  </a:cubicBezTo>
                  <a:cubicBezTo>
                    <a:pt x="551" y="48"/>
                    <a:pt x="443" y="76"/>
                    <a:pt x="428" y="179"/>
                  </a:cubicBezTo>
                  <a:cubicBezTo>
                    <a:pt x="428" y="179"/>
                    <a:pt x="424" y="183"/>
                    <a:pt x="310" y="1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4495680" y="2997000"/>
              <a:ext cx="807840" cy="1221840"/>
              <a:chOff x="4495680" y="2997000"/>
              <a:chExt cx="807840" cy="1221840"/>
            </a:xfrm>
          </p:grpSpPr>
          <p:sp>
            <p:nvSpPr>
              <p:cNvPr id="1980" name=""/>
              <p:cNvSpPr/>
              <p:nvPr/>
            </p:nvSpPr>
            <p:spPr>
              <a:xfrm>
                <a:off x="4502160" y="330840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496400" y="330984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548960" y="2997000"/>
                <a:ext cx="73548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495680" y="365112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5389560" y="3484440"/>
              <a:ext cx="901800" cy="285840"/>
            </a:xfrm>
            <a:custGeom>
              <a:avLst/>
              <a:gdLst/>
              <a:ahLst/>
              <a:rect l="l" t="t" r="r" b="b"/>
              <a:pathLst>
                <a:path w="568" h="180">
                  <a:moveTo>
                    <a:pt x="310" y="177"/>
                  </a:moveTo>
                  <a:cubicBezTo>
                    <a:pt x="280" y="103"/>
                    <a:pt x="215" y="88"/>
                    <a:pt x="0" y="29"/>
                  </a:cubicBezTo>
                  <a:cubicBezTo>
                    <a:pt x="311" y="0"/>
                    <a:pt x="398" y="29"/>
                    <a:pt x="480" y="21"/>
                  </a:cubicBezTo>
                  <a:cubicBezTo>
                    <a:pt x="568" y="43"/>
                    <a:pt x="412" y="66"/>
                    <a:pt x="531" y="162"/>
                  </a:cubicBezTo>
                  <a:cubicBezTo>
                    <a:pt x="531" y="162"/>
                    <a:pt x="424" y="180"/>
                    <a:pt x="310" y="177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5387760" y="2504880"/>
              <a:ext cx="807840" cy="1014480"/>
              <a:chOff x="5387760" y="2504880"/>
              <a:chExt cx="807840" cy="1014480"/>
            </a:xfrm>
          </p:grpSpPr>
          <p:sp>
            <p:nvSpPr>
              <p:cNvPr id="1986" name=""/>
              <p:cNvSpPr/>
              <p:nvPr/>
            </p:nvSpPr>
            <p:spPr>
              <a:xfrm>
                <a:off x="5394240" y="281628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388480" y="281772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441040" y="2504880"/>
                <a:ext cx="735480" cy="9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387760" y="315900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6713640" y="3049560"/>
              <a:ext cx="1687320" cy="304920"/>
            </a:xfrm>
            <a:custGeom>
              <a:avLst/>
              <a:gdLst/>
              <a:ahLst/>
              <a:rect l="l" t="t" r="r" b="b"/>
              <a:pathLst>
                <a:path w="1063" h="192">
                  <a:moveTo>
                    <a:pt x="0" y="185"/>
                  </a:moveTo>
                  <a:cubicBezTo>
                    <a:pt x="398" y="45"/>
                    <a:pt x="66" y="28"/>
                    <a:pt x="243" y="0"/>
                  </a:cubicBezTo>
                  <a:lnTo>
                    <a:pt x="1063" y="15"/>
                  </a:lnTo>
                  <a:cubicBezTo>
                    <a:pt x="1061" y="47"/>
                    <a:pt x="612" y="89"/>
                    <a:pt x="229" y="192"/>
                  </a:cubicBezTo>
                  <a:cubicBezTo>
                    <a:pt x="229" y="192"/>
                    <a:pt x="132" y="178"/>
                    <a:pt x="0" y="185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6973560" y="1258920"/>
              <a:ext cx="1448640" cy="1849320"/>
              <a:chOff x="6973560" y="1258920"/>
              <a:chExt cx="1448640" cy="1849320"/>
            </a:xfrm>
          </p:grpSpPr>
          <p:sp>
            <p:nvSpPr>
              <p:cNvPr id="1992" name=""/>
              <p:cNvSpPr/>
              <p:nvPr/>
            </p:nvSpPr>
            <p:spPr>
              <a:xfrm>
                <a:off x="7075440" y="2158920"/>
                <a:ext cx="131256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065720" y="1279440"/>
                <a:ext cx="131292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973560" y="1258920"/>
                <a:ext cx="1448640" cy="17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064280" y="186552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075440" y="215892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051320" y="24415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064280" y="274788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240" y="1578240"/>
                <a:ext cx="1314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636560" y="3003480"/>
              <a:ext cx="1460520" cy="649440"/>
            </a:xfrm>
            <a:custGeom>
              <a:avLst/>
              <a:gdLst/>
              <a:ahLst/>
              <a:rect l="l" t="t" r="r" b="b"/>
              <a:pathLst>
                <a:path w="920" h="409">
                  <a:moveTo>
                    <a:pt x="635" y="406"/>
                  </a:moveTo>
                  <a:cubicBezTo>
                    <a:pt x="310" y="125"/>
                    <a:pt x="0" y="58"/>
                    <a:pt x="0" y="58"/>
                  </a:cubicBezTo>
                  <a:lnTo>
                    <a:pt x="797" y="52"/>
                  </a:lnTo>
                  <a:cubicBezTo>
                    <a:pt x="920" y="84"/>
                    <a:pt x="790" y="0"/>
                    <a:pt x="738" y="251"/>
                  </a:cubicBezTo>
                  <a:cubicBezTo>
                    <a:pt x="738" y="251"/>
                    <a:pt x="749" y="409"/>
                    <a:pt x="635" y="406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1558800" y="1577880"/>
              <a:ext cx="1448640" cy="1520640"/>
              <a:chOff x="1558800" y="1577880"/>
              <a:chExt cx="1448640" cy="1520640"/>
            </a:xfrm>
          </p:grpSpPr>
          <p:sp>
            <p:nvSpPr>
              <p:cNvPr id="2002" name=""/>
              <p:cNvSpPr/>
              <p:nvPr/>
            </p:nvSpPr>
            <p:spPr>
              <a:xfrm>
                <a:off x="1650960" y="1598400"/>
                <a:ext cx="1312920" cy="150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558800" y="1577880"/>
                <a:ext cx="1448640" cy="14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649520" y="21841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660680" y="24778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636920" y="276048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671840" y="1896840"/>
                <a:ext cx="1314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08" name=""/>
          <p:cNvGraphicFramePr/>
          <p:nvPr/>
        </p:nvGraphicFramePr>
        <p:xfrm>
          <a:off x="2573280" y="3403440"/>
          <a:ext cx="52380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3280" y="3403440"/>
                    <a:ext cx="52380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CE6-9E28-4258-A109-C049E5F7160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277920" y="216000"/>
            <a:ext cx="88660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aggio di un datagramma in IP su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96800" y="1358640"/>
            <a:ext cx="817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’ingres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l’indirizzo di destinazione, indicizza la tabella d’instradamento e determina l’indirizzo IP del router successivo sul percorso de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determinare l’indirizzo fisico del router del prossimo hop, utilizza ARP (nel caso dell’interfaccia ATM, il router d’ingresso indicizza una tabella ATM ARP con l’indirizzo IP del router d’uscita e ne determina l’indirizzo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P nel router d’ingresso trasferisce il datagramma e l’indirizzo ATM del router di uscita al livello di link sottostante, cioè ad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ete ATM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a le celle al ricevente lungo il V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i usci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AL5  riassembla le celle nel datagramma origi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CRC è OK, il datagramma è passato a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604-6C54-4A9D-A485-3CDE8A13FCF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44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38280" y="1704960"/>
            <a:ext cx="355428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tagrammi IP nelle PDU ATM AA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indirizzo  IP a indirizzo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prio come da indirizzi IP a indirizzi MAC 802.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53080" y="4145040"/>
            <a:ext cx="162396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27920" y="2112840"/>
            <a:ext cx="1500120" cy="180684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308560" y="228744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6480000" y="3854520"/>
            <a:ext cx="623880" cy="317160"/>
            <a:chOff x="6480000" y="3854520"/>
            <a:chExt cx="623880" cy="317160"/>
          </a:xfrm>
        </p:grpSpPr>
        <p:sp>
          <p:nvSpPr>
            <p:cNvPr id="2018" name=""/>
            <p:cNvSpPr/>
            <p:nvPr/>
          </p:nvSpPr>
          <p:spPr>
            <a:xfrm>
              <a:off x="6485040" y="3996000"/>
              <a:ext cx="61884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8504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388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85040" y="3981240"/>
              <a:ext cx="61344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80000" y="3854520"/>
              <a:ext cx="61848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6628680" y="3899520"/>
              <a:ext cx="306000" cy="119520"/>
              <a:chOff x="6628680" y="3899520"/>
              <a:chExt cx="306000" cy="119520"/>
            </a:xfrm>
          </p:grpSpPr>
          <p:sp>
            <p:nvSpPr>
              <p:cNvPr id="2024" name=""/>
              <p:cNvSpPr/>
              <p:nvPr/>
            </p:nvSpPr>
            <p:spPr>
              <a:xfrm flipV="1">
                <a:off x="6628680" y="389952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38560" y="401904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729480" y="390168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"/>
            <p:cNvGrpSpPr/>
            <p:nvPr/>
          </p:nvGrpSpPr>
          <p:grpSpPr>
            <a:xfrm>
              <a:off x="6628680" y="3898080"/>
              <a:ext cx="306000" cy="119520"/>
              <a:chOff x="6628680" y="3898080"/>
              <a:chExt cx="306000" cy="119520"/>
            </a:xfrm>
          </p:grpSpPr>
          <p:sp>
            <p:nvSpPr>
              <p:cNvPr id="2028" name=""/>
              <p:cNvSpPr/>
              <p:nvPr/>
            </p:nvSpPr>
            <p:spPr>
              <a:xfrm>
                <a:off x="6628680" y="40154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838560" y="3898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6729480" y="389844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4797360" y="20811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2" name="" descr=""/>
          <p:cNvPicPr/>
          <p:nvPr/>
        </p:nvPicPr>
        <p:blipFill>
          <a:blip r:embed="rId2"/>
          <a:stretch/>
        </p:blipFill>
        <p:spPr>
          <a:xfrm>
            <a:off x="4824360" y="355428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2033" name="" descr=""/>
          <p:cNvPicPr/>
          <p:nvPr/>
        </p:nvPicPr>
        <p:blipFill>
          <a:blip r:embed="rId3"/>
          <a:stretch/>
        </p:blipFill>
        <p:spPr>
          <a:xfrm>
            <a:off x="6699240" y="17445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4" name="" descr=""/>
          <p:cNvPicPr/>
          <p:nvPr/>
        </p:nvPicPr>
        <p:blipFill>
          <a:blip r:embed="rId4"/>
          <a:stretch/>
        </p:blipFill>
        <p:spPr>
          <a:xfrm>
            <a:off x="5546880" y="455148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2035" name=""/>
          <p:cNvSpPr/>
          <p:nvPr/>
        </p:nvSpPr>
        <p:spPr>
          <a:xfrm>
            <a:off x="5305320" y="243684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459400" y="29732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279864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10200" y="3011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10200" y="319896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5578560" y="2805120"/>
            <a:ext cx="621720" cy="315720"/>
            <a:chOff x="5578560" y="2805120"/>
            <a:chExt cx="621720" cy="315720"/>
          </a:xfrm>
        </p:grpSpPr>
        <p:sp>
          <p:nvSpPr>
            <p:cNvPr id="2041" name=""/>
            <p:cNvSpPr/>
            <p:nvPr/>
          </p:nvSpPr>
          <p:spPr>
            <a:xfrm>
              <a:off x="5583600" y="294588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58360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20028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583600" y="293112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578560" y="280512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5726880" y="2850120"/>
              <a:ext cx="304920" cy="119160"/>
              <a:chOff x="5726880" y="2850120"/>
              <a:chExt cx="304920" cy="119160"/>
            </a:xfrm>
          </p:grpSpPr>
          <p:sp>
            <p:nvSpPr>
              <p:cNvPr id="2047" name=""/>
              <p:cNvSpPr/>
              <p:nvPr/>
            </p:nvSpPr>
            <p:spPr>
              <a:xfrm flipV="1">
                <a:off x="5726880" y="28501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936040" y="29692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27320" y="28522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26880" y="2847960"/>
              <a:ext cx="304920" cy="119160"/>
              <a:chOff x="5726880" y="2847960"/>
              <a:chExt cx="304920" cy="11916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26880" y="29649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936040" y="2847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827320" y="2848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4" name=""/>
          <p:cNvSpPr/>
          <p:nvPr/>
        </p:nvSpPr>
        <p:spPr>
          <a:xfrm>
            <a:off x="6184800" y="281304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5"/>
          <a:stretch/>
        </p:blipFill>
        <p:spPr>
          <a:xfrm>
            <a:off x="6735600" y="451332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6209600">
            <a:off x="6351480" y="3817440"/>
            <a:ext cx="16812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6681960" y="417528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6613560" y="2438280"/>
            <a:ext cx="554040" cy="468360"/>
            <a:chOff x="6613560" y="2438280"/>
            <a:chExt cx="554040" cy="468360"/>
          </a:xfrm>
        </p:grpSpPr>
        <p:sp>
          <p:nvSpPr>
            <p:cNvPr id="2059" name=""/>
            <p:cNvSpPr/>
            <p:nvPr/>
          </p:nvSpPr>
          <p:spPr>
            <a:xfrm>
              <a:off x="6734520" y="2442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15360" y="2509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681960" y="2639520"/>
              <a:ext cx="304560" cy="119160"/>
              <a:chOff x="6681960" y="2639520"/>
              <a:chExt cx="304560" cy="119160"/>
            </a:xfrm>
          </p:grpSpPr>
          <p:sp>
            <p:nvSpPr>
              <p:cNvPr id="2062" name=""/>
              <p:cNvSpPr/>
              <p:nvPr/>
            </p:nvSpPr>
            <p:spPr>
              <a:xfrm>
                <a:off x="6681960" y="2756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890760" y="2639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782040" y="2639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6677280" y="2631960"/>
              <a:ext cx="303840" cy="119160"/>
              <a:chOff x="6677280" y="2631960"/>
              <a:chExt cx="303840" cy="11916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77280" y="2631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85720" y="2751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777360" y="2634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6613560" y="2438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37640" y="2438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891480" y="3251160"/>
            <a:ext cx="554040" cy="468360"/>
            <a:chOff x="6891480" y="3251160"/>
            <a:chExt cx="554040" cy="468360"/>
          </a:xfrm>
        </p:grpSpPr>
        <p:sp>
          <p:nvSpPr>
            <p:cNvPr id="2072" name=""/>
            <p:cNvSpPr/>
            <p:nvPr/>
          </p:nvSpPr>
          <p:spPr>
            <a:xfrm>
              <a:off x="7012440" y="32558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893280" y="33224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6959880" y="3452400"/>
              <a:ext cx="304560" cy="119160"/>
              <a:chOff x="6959880" y="3452400"/>
              <a:chExt cx="304560" cy="119160"/>
            </a:xfrm>
          </p:grpSpPr>
          <p:sp>
            <p:nvSpPr>
              <p:cNvPr id="2075" name=""/>
              <p:cNvSpPr/>
              <p:nvPr/>
            </p:nvSpPr>
            <p:spPr>
              <a:xfrm>
                <a:off x="6959880" y="3569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168680" y="34524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7059960" y="34527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6955200" y="3444840"/>
              <a:ext cx="303840" cy="119160"/>
              <a:chOff x="6955200" y="3444840"/>
              <a:chExt cx="303840" cy="119160"/>
            </a:xfrm>
          </p:grpSpPr>
          <p:sp>
            <p:nvSpPr>
              <p:cNvPr id="2079" name=""/>
              <p:cNvSpPr/>
              <p:nvPr/>
            </p:nvSpPr>
            <p:spPr>
              <a:xfrm flipV="1">
                <a:off x="6955200" y="34448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163640" y="35640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55280" y="34470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2" name=""/>
            <p:cNvSpPr/>
            <p:nvPr/>
          </p:nvSpPr>
          <p:spPr>
            <a:xfrm>
              <a:off x="6891480" y="32511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15560" y="32511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6908760" y="2184480"/>
            <a:ext cx="100080" cy="2426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975360" y="371808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942240" y="291312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802280" y="1860480"/>
            <a:ext cx="6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7451280" y="2219400"/>
            <a:ext cx="398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269240" y="4429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5243400" y="4022280"/>
            <a:ext cx="14148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5237280" y="436536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F5A-C31C-44BE-ABAA-7A78E5BC1EF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iniziale: velocizzare l’inoltro IP usando un’etichetta di lunghezza stabilita (invece degli indirizzi di destinazione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dea viene presa a prestito dall’approccio del V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 i datagrammi IP mantengono ancora l’indirizz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/>
            <a:ahLst/>
            <a:rect l="l" t="t" r="r" b="b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59600" y="40734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PP o Eth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301280" y="4195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staz.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18880" y="422748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uo del frame a livello di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530080" y="42130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staz.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155680" y="5440320"/>
            <a:ext cx="3122640" cy="67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592720" y="5608800"/>
            <a:ext cx="1069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ich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1CB-0A7F-44F3-B4C9-52BB6675620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Micaela</cp:lastModifiedBy>
  <cp:lastPrinted>2005-12-30T09:05:33Z</cp:lastPrinted>
  <dcterms:modified xsi:type="dcterms:W3CDTF">2008-05-14T07:31:59Z</dcterms:modified>
  <cp:revision>335</cp:revision>
  <dc:subject/>
  <dc:title>3rd Edition, Chapter 5</dc:title>
</cp:coreProperties>
</file>